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5FE-F8BB-4A8E-820E-FB1CCF6C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F8A-91E5-4C79-8BC2-05EB8EC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43D-5F9F-4D95-BAF3-D7264D2B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37F-81FA-4C3C-BF97-7B98E509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4C0-1D8D-4116-995B-7763C8B8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125-9A82-48FF-BF36-69D4207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FBD-124C-4B16-8E62-052CDCE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F8B-2BE1-44FA-A088-27DBB017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BEC-1A06-4D58-9543-A5AC6EC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BB4-527B-4B8E-9456-9CFF3DD2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A72-B913-4F74-AB33-8419AD29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401-F3CF-405A-BBC4-92AC6C3D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D05C-CDFF-4DCC-BD3B-74FA8746E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-Game Sh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3-to-1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layers alternate tu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your turn, pick a number from 1 to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may not pick a number that has already been picked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i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a set of exactly 3 numbers that sum to 15, you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52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ormal Design Tools: Emergent Complexity, Emergent Narr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S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nse-plea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anta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make-beli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d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obstacl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ocial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Dis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uncharted 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Ex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elf-dis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Masoch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 as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16200000">
            <a:off x="4533840" y="2857320"/>
            <a:ext cx="1219320" cy="144756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18240 h 1447560"/>
              <a:gd name="textAreaBottom" fmla="*/ 11293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819520"/>
            <a:ext cx="3962160" cy="2133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809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8" idx="3"/>
            <a:endCxn id="105" idx="1"/>
          </p:cNvCxnSpPr>
          <p:nvPr/>
        </p:nvCxnSpPr>
        <p:spPr>
          <a:xfrm>
            <a:off x="3886200" y="3885840"/>
            <a:ext cx="5342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715000" y="36576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9" idx="3"/>
            <a:endCxn id="112" idx="3"/>
          </p:cNvCxnSpPr>
          <p:nvPr/>
        </p:nvCxnSpPr>
        <p:spPr>
          <a:xfrm flipH="1">
            <a:off x="3885480" y="3733560"/>
            <a:ext cx="1981800" cy="656280"/>
          </a:xfrm>
          <a:prstGeom prst="bentConnector3">
            <a:avLst>
              <a:gd name="adj1" fmla="val -115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295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3" idx="3"/>
            <a:endCxn id="106" idx="1"/>
          </p:cNvCxnSpPr>
          <p:nvPr/>
        </p:nvCxnSpPr>
        <p:spPr>
          <a:xfrm>
            <a:off x="2133720" y="3352320"/>
            <a:ext cx="228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3"/>
            <a:endCxn id="114" idx="1"/>
          </p:cNvCxnSpPr>
          <p:nvPr/>
        </p:nvCxnSpPr>
        <p:spPr>
          <a:xfrm>
            <a:off x="5866920" y="3428640"/>
            <a:ext cx="686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2590920" y="3657600"/>
            <a:ext cx="1295280" cy="914400"/>
            <a:chOff x="2590920" y="3657600"/>
            <a:chExt cx="1295280" cy="914400"/>
          </a:xfrm>
        </p:grpSpPr>
        <p:sp>
          <p:nvSpPr>
            <p:cNvPr id="118" name=""/>
            <p:cNvSpPr/>
            <p:nvPr/>
          </p:nvSpPr>
          <p:spPr>
            <a:xfrm>
              <a:off x="2590920" y="3657600"/>
              <a:ext cx="1295280" cy="914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3840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3560" y="4297320"/>
              <a:ext cx="1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560" y="3810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193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lay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3657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Graphics/S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33412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“State Machine”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1: Games as Complex Syst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514600"/>
            <a:ext cx="83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that cannot b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mp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red from a system’s r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ergent Complexity (“Emergence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343400"/>
            <a:ext cx="83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stem that possesses or exhibits emergent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809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lex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-Game Sh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3-to-1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layers alternate tur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your turn, pick a number from 1 to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may not pick a number that has already been picked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i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a set of exactly 3 numbers that sum to 15, you w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522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ormal Design Tools: Emergent Complexity, Emergent Narr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600200"/>
            <a:ext cx="31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nch Lin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67280" y="2666880"/>
            <a:ext cx="2514600" cy="2514600"/>
            <a:chOff x="5867280" y="2666880"/>
            <a:chExt cx="2514600" cy="2514600"/>
          </a:xfrm>
        </p:grpSpPr>
        <p:sp>
          <p:nvSpPr>
            <p:cNvPr id="49" name=""/>
            <p:cNvSpPr/>
            <p:nvPr/>
          </p:nvSpPr>
          <p:spPr>
            <a:xfrm>
              <a:off x="697248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96080" y="2971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48520" y="2971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72480" y="4343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434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48520" y="4343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7248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6080" y="3657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4852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81680" y="266688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43800" y="266688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867280" y="3504960"/>
              <a:ext cx="2514600" cy="761760"/>
              <a:chOff x="5867280" y="3504960"/>
              <a:chExt cx="2514600" cy="761760"/>
            </a:xfrm>
          </p:grpSpPr>
          <p:sp>
            <p:nvSpPr>
              <p:cNvPr id="61" name=""/>
              <p:cNvSpPr/>
              <p:nvPr/>
            </p:nvSpPr>
            <p:spPr>
              <a:xfrm>
                <a:off x="5867280" y="4266720"/>
                <a:ext cx="2514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7280" y="3504960"/>
                <a:ext cx="2514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ample: Conway’s Game of Lif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id of cells, each cell is either “alive” or “de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ell has 8 neighb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 each cell’s liv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or 3: Stay a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ly 3: Become a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560" y="589428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is called a “Cellular Automaton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way’s Life is a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omplex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Patterns: Block, Honeyc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Patterns: Blin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ng Patterns: Gl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terns of Patterns: Beehive, Glider G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105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rules are inadequate to describe the system’s behav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in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ss: Attack &amp; Defense, Discovered Check, Knight Fork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: Eyes, Life &amp; Death patterns, Tesu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The Gathering: Card Combos, Deck Arche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Quest: “Trains,” “Kiting,” “Kill-stealin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: Aesthetics of Emerg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 makes Emergent Complexity “fun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cove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ergent properties of the system form an explorable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ity means more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halle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ame’s emergent properties form its “strategic vocabula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scenarios and obstacles can eme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 there I wa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ative emerges from game ev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ity gives you infinite monkey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ame’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meaning to the narra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t vs. Embedded Narra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erg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rrative occurs as short vign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bedd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uthored) narrative works well for major story ar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rrative in T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edded narra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s as a “frame” for intera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to short, discret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n-intera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so consider: letter-boxing of Zelda 64 cutsce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the actual gameplay, narrative is largely emer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980720" y="2057040"/>
            <a:ext cx="5410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ergent Complexity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ergent Narra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1240" y="38098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rant by MAH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7160" y="6095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DC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e 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anta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t properties don’t necessarily support the metaph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dictions are common, creat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bsurd fantas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urphytitle" descr=""/>
          <p:cNvPicPr/>
          <p:nvPr/>
        </p:nvPicPr>
        <p:blipFill>
          <a:blip r:embed="rId1"/>
          <a:stretch/>
        </p:blipFill>
        <p:spPr>
          <a:xfrm>
            <a:off x="320184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0211" descr=""/>
          <p:cNvPicPr/>
          <p:nvPr/>
        </p:nvPicPr>
        <p:blipFill>
          <a:blip r:embed="rId2"/>
          <a:stretch/>
        </p:blipFill>
        <p:spPr>
          <a:xfrm>
            <a:off x="622440" y="1447920"/>
            <a:ext cx="377352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0303" descr=""/>
          <p:cNvPicPr/>
          <p:nvPr/>
        </p:nvPicPr>
        <p:blipFill>
          <a:blip r:embed="rId3"/>
          <a:stretch/>
        </p:blipFill>
        <p:spPr>
          <a:xfrm>
            <a:off x="4800600" y="1447920"/>
            <a:ext cx="37576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6172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© Steve Jackson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20640" y="617220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sjgam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urd Fantasy Trouble Spo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-Fi/Fantasy sim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 reveals flaws &amp; 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S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t properties must be replicated faithfu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Perils of Emerg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generate strategies (“exploit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ntended feedback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un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re’s no substitute for playtest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type ear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test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ick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cre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 (tric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1981080"/>
            <a:ext cx="327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amin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soch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3: Models of Complex G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do we make these thing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elements are sim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state has many ele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 initial condi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xity does not mean lots of r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ogeneous vs. Heterogene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geneous: Many similar elements (Lif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geneous: Many distinct elements (Magic: The Gath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trum, not a Dicho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odern games are heterogene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eating Complex System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Heterogeneous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multiple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ndividual systems sim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interactions (“cross-terms”) between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800" y="4673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cus on system interaction, not system complex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at is the most over-used word in all of game desig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Creature Combat, Card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vilization: Unit Movement/Combat, City Sim, Diplom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ef: AI behavior, Sound Propagation, Comb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105520"/>
            <a:ext cx="53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dividual systems are mini-gam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 don’t stand on their 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ered Syste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few solid “foundation”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second tier of cross-term-inducing fea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remains fixed, while the second tier grows over development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ef: Lockpi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ic: Enchan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zation: Te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ered Syste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systems will survive the  development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s incremental development of second ti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marks for system expl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Interactions: Feed-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ystem’s state directly controls the rules or parameters of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: Card Economy feeds into Comb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pha Centauri: Diplomacy feeds into Econom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-directional Feed-in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e: Resist change (Thermost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table: Amplify change (Snowball eff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stem Interactions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esources serve as a medium for system interac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Com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ystems consume the same re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g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Spells &amp; Creatures compete for m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Trans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system produces a resources that another consu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iviliza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Cities produce units; Combat consumes the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 Exchange: Trans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converts one resource in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arcraft: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Repairs turn raw materials into hit points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s ar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can be c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 “arbitra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loits can manifest as “energy spikes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What is the most over-used word in all of game desig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1148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148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Fun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ng Energy Spik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in time constraint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and tune your exchange ra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t’s OK to grow, just don’t grow too quick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creat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lle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ence can thwar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nt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Cross-terms between simpl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f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slides: www2.lglass.com/~mah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email: mahk@lglas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ification” by John Ca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BN: 0-06-16888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32: psoup.math.wisc.edu/Life32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own with “Fun!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2120" y="20764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hort list of “fun” gam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9600" y="2819520"/>
            <a:ext cx="311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ro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c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Don’t Know J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819520"/>
            <a:ext cx="223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t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Centa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760" y="5257800"/>
            <a:ext cx="674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 trying to make good games, “fun”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ts you so f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1905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ule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al Design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(i.e. cross-gen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-to-day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understood application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, not value sta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w more words on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as Complex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s of Emergent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t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and Managing Emergent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ly Taxonom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Brief Taxonomy of “Fu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21:10:44Z</dcterms:created>
  <dc:creator>Marc "MAHK" LeBlanc</dc:creator>
  <dc:description/>
  <dc:language>en-US</dc:language>
  <cp:lastModifiedBy>tech</cp:lastModifiedBy>
  <dcterms:modified xsi:type="dcterms:W3CDTF">2000-03-09T20:14:39Z</dcterms:modified>
  <cp:revision>25</cp:revision>
  <dc:subject/>
  <dc:title>Formal Design Tools</dc:title>
</cp:coreProperties>
</file>