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0DF7-0E74-4C02-9F3C-5E1B892DB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17EB-85D5-45D6-84F9-B8897C01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CF38-FC2A-46BC-8491-2ADE3DEA6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DC2E-28BB-4860-BD45-0F5C46AA4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A139-9111-4A3A-B557-CAF9D4AC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749F-FD5A-4446-A859-054534CC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37F4-4777-4CCF-A949-C5484E7B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6A12-12D3-4479-B798-1C8102A5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E846-E6B4-40F3-92F4-3095CEB5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CC22-4131-415B-B0AC-CA96E0B7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3E96-B1CE-4584-8F3D-1EA2A16B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5D86-9EC8-422A-9766-B8F35D28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1A7C-7172-482D-AE8E-76C319AFFE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rmal Design Tool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eedback System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d the Dramatic Structure of Competi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44480" y="4419720"/>
            <a:ext cx="22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 rant by MAH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7160" y="6095880"/>
            <a:ext cx="15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DC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sitive Feedback Systems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ive their outpu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way fro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“target” valu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ft to their own devices, will drive their output to infin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unsta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7240" y="4038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roo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F(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roo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– 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thermosta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72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 Other Words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7240" y="1828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roo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F(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roo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– 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thermosta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64760" y="320040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71040" y="594360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(x) is any increasing fun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eedback Systems in G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198144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e St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43600" y="2514600"/>
            <a:ext cx="2514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ring Function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43600" y="4800600"/>
            <a:ext cx="25909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4724280"/>
            <a:ext cx="259092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e Mechan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27432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885840" y="518148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38880" y="33526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819520"/>
            <a:ext cx="533520" cy="1981080"/>
          </a:xfrm>
          <a:custGeom>
            <a:avLst/>
            <a:gdLst/>
            <a:ahLst/>
            <a:rect l="l" t="t" r="r" b="b"/>
            <a:pathLst>
              <a:path w="448" h="1680">
                <a:moveTo>
                  <a:pt x="304" y="1680"/>
                </a:moveTo>
                <a:cubicBezTo>
                  <a:pt x="168" y="1416"/>
                  <a:pt x="32" y="1152"/>
                  <a:pt x="16" y="912"/>
                </a:cubicBezTo>
                <a:cubicBezTo>
                  <a:pt x="0" y="672"/>
                  <a:pt x="136" y="392"/>
                  <a:pt x="208" y="240"/>
                </a:cubicBezTo>
                <a:cubicBezTo>
                  <a:pt x="280" y="88"/>
                  <a:pt x="364" y="44"/>
                  <a:pt x="44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Negative Feedback Basketbal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8195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every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points of difference in the two teams’ scores, the losing team may have an extra player in pl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ptop Motivation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1981080"/>
            <a:ext cx="80010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the point in my talk where my laptop crashed at the GDC in march. 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ound of encouraging applause, please, to my laptop, for making it this far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sitive Feedback Basketbal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21337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every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points of difference in the two teams’ scores,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inn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eam may have an extra player in pl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724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 Other Words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2209680"/>
            <a:ext cx="6629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me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F(S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me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–   S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you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5105520"/>
            <a:ext cx="5721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(x) is any increasing func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m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re the two teams’ sc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64760" y="297180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3657600"/>
            <a:ext cx="6629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me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F(S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me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–   S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you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eedback Rule #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gative feedback stabilizes the ga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itive feedback destabilizes the ga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bility i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game bal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eedback Rule #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gative feedback forgives the los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itive feedback rewards the winn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eedback Rule #3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gative feedback can prolong the ga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itive feedback can end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me Design Fortune Cook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imless wandering is the enemy of fun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ship is not the same as gameplay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compelling illusions, not realistic simulations.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now your roots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0,000,000 Elvis fans can’t be wrong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eedback Rule #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itive feedback magnifies early succes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gative feedback magnifies late o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Most Common Example: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Intrinsic Negative Feedback in Many-Player G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29200" y="3809880"/>
            <a:ext cx="644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verybody gang up on the scourge!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ther Feedback Ex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ttle Arena Toshinden: desperation moves (negativ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vilization: exponential growth (positiv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g Commander: system damage (positiv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e More Example: An Auto Racing Game with Gu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nt-mounted guns: negative feedb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r-mounted guns: positive feedb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eedback Rule #5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edback systems ca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mer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rom your game systems “by accident.”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sure to identify th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3809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-player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ul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eedback Rule #6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wo different feedback systems are in conflict, one will overwhelm the 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38862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’s no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 biases ma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eedback Rule #7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yers are stabilizing influen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2971800"/>
            <a:ext cx="78487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layer who is ahead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ndba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 laz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too many op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eedback Rule #8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edback systems can take control away from the player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eedback Summa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edback systems exist in ga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gative feedback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abiliz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gam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ve feedback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stabiliz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gam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feedback systems ar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merg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th positive and negative feedback are useful to game designer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2480" y="5715000"/>
            <a:ext cx="263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On to Part  2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2: Dramatic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09480" y="1905120"/>
          <a:ext cx="7772400" cy="43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05120"/>
                    <a:ext cx="777240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e Alternative: Formal Design Tool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les, Models, Techn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ll-defi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tract (i.e. cross-genr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y-to-day ut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ll-understood application contex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nses, not value stat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ramatic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al tool for narrative design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etition can have dramatic struc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games have both competition &amp; narrat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ramatic Structure In G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s a sense of “wholeness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s a larger context for small decis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s games that make good stor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Creates Dramatic Tensio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etition is Confli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certainty: The winner is unknow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evitability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olution is immi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ame is moving forwar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3520" y="2437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Dramatic tension does not guarantee dramatic structur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ramatic Structure Ex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ketball (organized vs. pick-u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ck creates inevi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gic: The Gath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k, Mana create inevitabil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athmat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-scale drama in each confro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overall stru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reating Inevitabi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roach the end of the game throug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non-reversible proc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non-renewable resour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reating Uncertain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want the game to feel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lo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us, negative feedback systems can induce uncertain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stabilizing forces also wo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iming the Clima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o Early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o much time spent knowing who will w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s become spectato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o La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d of game takes the players by surpri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oment of realization is necess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iming the Clima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games, the climax comes relatively late, becaus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ain, competition is confli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does in narrat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resolution occurs after the game en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olving Dramatic Ten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tain the same sense of inevitability (i.e. the same non-reversible process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lace uncertainty wit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ertainty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ough de-stabilizing forces (e.g. positive feedback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cture Over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ext: Compet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edback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ve &amp; Negative Feedb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tion to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matic Structu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tion to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ama-Creation Techn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Basketbal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gative feedback moves climax la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itive feedback moves it earlier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StarCraf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certain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g of W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evitabil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ite raw materi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is a resou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certainty erodes over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nential growth eventually destabiliz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Tit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tail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 &amp; Conquer” g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ghting costs units (attrition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ning fights earns units &amp; po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trition remains constant, but rewards incr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Tit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ly ga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sts outweigh rew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ble &amp; uncer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te ga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wards outweigh co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stable &amp; cer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ak sense of inevitability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FireTeam Deathmat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tail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athmatch with tea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ase 1: Infinite resurrection, earn li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ase 2: Finite resurrection, spend li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30840" y="5562720"/>
            <a:ext cx="40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Phase 2 has positive feedbac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FireTeam Deathmat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evit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lim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certain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ase 1 is stable &amp; uncer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ase 2 is unstable &amp; cer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ase 1 is longer than Phase 2; late clim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You Don’t Know Jac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certain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estions increase in value over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-Scoring bonus rounds late in the ga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evitabil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xed game leng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easily climax too ear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ndom feedback el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Newtonian Metapho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matic Tension = Potential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bilizing/Destabilizing Forces = Fo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ward Progress = D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ramatic Structure Summa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mes can benefit from dramatic struc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-reversible processes create inevitabil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bilizing forces create uncertain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olve the tension you crea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hk@lglas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2.lglass.com/~mah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3581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hameless Plug: GDC 20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46483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al Design Tool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ergent Complexity, Emergent Narr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ligatory Disclaim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really pointy-head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will be ma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LaPlace transforms; No game theo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may be revie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ve n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1: Feedback Syste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1640" y="1066680"/>
            <a:ext cx="720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 feedback system monitors and regulates its own 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1600200"/>
            <a:ext cx="198144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27432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3124080" y="4800240"/>
            <a:ext cx="27432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124080" y="5257800"/>
            <a:ext cx="27432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00800" y="37339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1840" y="449568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o Co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2200" y="541008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o Ho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0120" y="6248520"/>
            <a:ext cx="39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: An Ideal Thermost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therm" descr=""/>
          <p:cNvPicPr/>
          <p:nvPr/>
        </p:nvPicPr>
        <p:blipFill>
          <a:blip r:embed="rId1"/>
          <a:stretch/>
        </p:blipFill>
        <p:spPr>
          <a:xfrm>
            <a:off x="5943600" y="1752480"/>
            <a:ext cx="857160" cy="1828800"/>
          </a:xfrm>
          <a:prstGeom prst="rect">
            <a:avLst/>
          </a:prstGeom>
          <a:ln w="0">
            <a:noFill/>
          </a:ln>
        </p:spPr>
      </p:pic>
      <p:pic>
        <p:nvPicPr>
          <p:cNvPr id="64" name="control" descr=""/>
          <p:cNvPicPr/>
          <p:nvPr/>
        </p:nvPicPr>
        <p:blipFill>
          <a:blip r:embed="rId2"/>
          <a:stretch/>
        </p:blipFill>
        <p:spPr>
          <a:xfrm>
            <a:off x="5943600" y="4876920"/>
            <a:ext cx="1587600" cy="558720"/>
          </a:xfrm>
          <a:prstGeom prst="rect">
            <a:avLst/>
          </a:prstGeom>
          <a:ln w="0">
            <a:noFill/>
          </a:ln>
        </p:spPr>
      </p:pic>
      <p:pic>
        <p:nvPicPr>
          <p:cNvPr id="65" name="cooler" descr=""/>
          <p:cNvPicPr/>
          <p:nvPr/>
        </p:nvPicPr>
        <p:blipFill>
          <a:blip r:embed="rId3"/>
          <a:stretch/>
        </p:blipFill>
        <p:spPr>
          <a:xfrm>
            <a:off x="1295280" y="5181480"/>
            <a:ext cx="1727280" cy="1079640"/>
          </a:xfrm>
          <a:prstGeom prst="rect">
            <a:avLst/>
          </a:prstGeom>
          <a:ln w="0">
            <a:noFill/>
          </a:ln>
        </p:spPr>
      </p:pic>
      <p:pic>
        <p:nvPicPr>
          <p:cNvPr id="66" name="heater" descr=""/>
          <p:cNvPicPr/>
          <p:nvPr/>
        </p:nvPicPr>
        <p:blipFill>
          <a:blip r:embed="rId4"/>
          <a:stretch/>
        </p:blipFill>
        <p:spPr>
          <a:xfrm>
            <a:off x="1295280" y="3962520"/>
            <a:ext cx="1752840" cy="1092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28880" y="3200400"/>
            <a:ext cx="266400" cy="129528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20" y="624"/>
                </a:moveTo>
                <a:cubicBezTo>
                  <a:pt x="80" y="564"/>
                  <a:pt x="40" y="504"/>
                  <a:pt x="24" y="432"/>
                </a:cubicBezTo>
                <a:cubicBezTo>
                  <a:pt x="8" y="360"/>
                  <a:pt x="0" y="264"/>
                  <a:pt x="24" y="192"/>
                </a:cubicBezTo>
                <a:cubicBezTo>
                  <a:pt x="48" y="120"/>
                  <a:pt x="108" y="60"/>
                  <a:pt x="16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11360" y="2819520"/>
            <a:ext cx="583920" cy="2438280"/>
          </a:xfrm>
          <a:custGeom>
            <a:avLst/>
            <a:gdLst/>
            <a:ahLst/>
            <a:rect l="l" t="t" r="r" b="b"/>
            <a:pathLst>
              <a:path w="368" h="1536">
                <a:moveTo>
                  <a:pt x="320" y="1536"/>
                </a:moveTo>
                <a:cubicBezTo>
                  <a:pt x="192" y="1280"/>
                  <a:pt x="64" y="1024"/>
                  <a:pt x="32" y="816"/>
                </a:cubicBezTo>
                <a:cubicBezTo>
                  <a:pt x="0" y="608"/>
                  <a:pt x="72" y="424"/>
                  <a:pt x="128" y="288"/>
                </a:cubicBezTo>
                <a:cubicBezTo>
                  <a:pt x="184" y="152"/>
                  <a:pt x="276" y="76"/>
                  <a:pt x="36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0360" y="240336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mo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200" y="54864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7240" y="62485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o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840" y="35053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72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Thermostat System is 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Negative Feedbac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educes the differenc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tween the actual temperature and the target tempera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gative Feedback Systems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ive their output towards a target valu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their output within an acceptable ran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a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sitive Feedbac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1600200"/>
            <a:ext cx="198144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52680" y="27432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124080" y="4952880"/>
            <a:ext cx="274320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3124080" y="4952520"/>
            <a:ext cx="274320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00800" y="37339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01320" y="457200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o Co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01680" y="533412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o Ho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therm" descr=""/>
          <p:cNvPicPr/>
          <p:nvPr/>
        </p:nvPicPr>
        <p:blipFill>
          <a:blip r:embed="rId1"/>
          <a:stretch/>
        </p:blipFill>
        <p:spPr>
          <a:xfrm>
            <a:off x="5943600" y="1752480"/>
            <a:ext cx="857160" cy="1828800"/>
          </a:xfrm>
          <a:prstGeom prst="rect">
            <a:avLst/>
          </a:prstGeom>
          <a:ln w="0">
            <a:noFill/>
          </a:ln>
        </p:spPr>
      </p:pic>
      <p:pic>
        <p:nvPicPr>
          <p:cNvPr id="86" name="control" descr=""/>
          <p:cNvPicPr/>
          <p:nvPr/>
        </p:nvPicPr>
        <p:blipFill>
          <a:blip r:embed="rId2"/>
          <a:stretch/>
        </p:blipFill>
        <p:spPr>
          <a:xfrm>
            <a:off x="5943600" y="4876920"/>
            <a:ext cx="1587600" cy="558720"/>
          </a:xfrm>
          <a:prstGeom prst="rect">
            <a:avLst/>
          </a:prstGeom>
          <a:ln w="0">
            <a:noFill/>
          </a:ln>
        </p:spPr>
      </p:pic>
      <p:pic>
        <p:nvPicPr>
          <p:cNvPr id="87" name="cooler" descr=""/>
          <p:cNvPicPr/>
          <p:nvPr/>
        </p:nvPicPr>
        <p:blipFill>
          <a:blip r:embed="rId3"/>
          <a:stretch/>
        </p:blipFill>
        <p:spPr>
          <a:xfrm>
            <a:off x="1295280" y="5181480"/>
            <a:ext cx="1727280" cy="1079640"/>
          </a:xfrm>
          <a:prstGeom prst="rect">
            <a:avLst/>
          </a:prstGeom>
          <a:ln w="0">
            <a:noFill/>
          </a:ln>
        </p:spPr>
      </p:pic>
      <p:pic>
        <p:nvPicPr>
          <p:cNvPr id="88" name="heater" descr=""/>
          <p:cNvPicPr/>
          <p:nvPr/>
        </p:nvPicPr>
        <p:blipFill>
          <a:blip r:embed="rId4"/>
          <a:stretch/>
        </p:blipFill>
        <p:spPr>
          <a:xfrm>
            <a:off x="1295280" y="3962520"/>
            <a:ext cx="1752840" cy="1092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028880" y="3200400"/>
            <a:ext cx="266400" cy="129528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20" y="624"/>
                </a:moveTo>
                <a:cubicBezTo>
                  <a:pt x="80" y="564"/>
                  <a:pt x="40" y="504"/>
                  <a:pt x="24" y="432"/>
                </a:cubicBezTo>
                <a:cubicBezTo>
                  <a:pt x="8" y="360"/>
                  <a:pt x="0" y="264"/>
                  <a:pt x="24" y="192"/>
                </a:cubicBezTo>
                <a:cubicBezTo>
                  <a:pt x="48" y="120"/>
                  <a:pt x="108" y="60"/>
                  <a:pt x="16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11360" y="2819520"/>
            <a:ext cx="583920" cy="2438280"/>
          </a:xfrm>
          <a:custGeom>
            <a:avLst/>
            <a:gdLst/>
            <a:ahLst/>
            <a:rect l="l" t="t" r="r" b="b"/>
            <a:pathLst>
              <a:path w="368" h="1536">
                <a:moveTo>
                  <a:pt x="320" y="1536"/>
                </a:moveTo>
                <a:cubicBezTo>
                  <a:pt x="192" y="1280"/>
                  <a:pt x="64" y="1024"/>
                  <a:pt x="32" y="816"/>
                </a:cubicBezTo>
                <a:cubicBezTo>
                  <a:pt x="0" y="608"/>
                  <a:pt x="72" y="424"/>
                  <a:pt x="128" y="288"/>
                </a:cubicBezTo>
                <a:cubicBezTo>
                  <a:pt x="184" y="152"/>
                  <a:pt x="276" y="76"/>
                  <a:pt x="36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40360" y="240336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mo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200" y="54864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7240" y="62485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o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52840" y="35053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59320" y="6289560"/>
            <a:ext cx="45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: The Evil Anti-Thermost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7T03:24:56Z</dcterms:created>
  <dc:creator>Marc "MAHK" LeBlanc</dc:creator>
  <dc:description/>
  <dc:language>en-US</dc:language>
  <cp:lastModifiedBy>Marc "MAHK" LeBlanc</cp:lastModifiedBy>
  <dcterms:modified xsi:type="dcterms:W3CDTF">2000-03-15T00:15:29Z</dcterms:modified>
  <cp:revision>27</cp:revision>
  <dc:subject/>
  <dc:title>Formal Design Tools</dc:title>
</cp:coreProperties>
</file>