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4033-6E06-42AF-A8D0-422B01C1A7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5574-70CF-49A9-B724-A7AA1914E65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AB55-CEEA-4CF6-8697-B7A76D78D61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24F4-F86D-4FF6-8ED4-71B473D340E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E3F4-A8BC-40F5-BE39-F45BBDE6AA3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AA87-E444-4243-857F-DA2E517E9A8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3CA-F0EE-4BFF-8DAF-7864CCE145D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6DF9-BD2B-4F1E-9AF8-DE5CCFDF312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333C-6DAF-402D-8A0B-4D7E729A848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E44-AA02-4BDC-A3C6-0DA4EBA2944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DF12-7F81-4A2C-BFE3-F0F97CD3325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412B-54A4-4B7D-9AD1-928A131E113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ablo card g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ll monsters, get treasure, buy better stuff, kill bigger monsters, get bigger treasures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71F0-62B3-49F6-9387-6C0D748D9F1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AE4E-D1D2-4AB6-ACE5-A9571C444CA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6BD6-F879-4DD6-9B4A-D9936A262BD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D1F-9F9B-4FF6-806A-1AF838E0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FEE-55D0-4F0F-A77D-9BE0A4D6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951-775C-4F9B-B461-F1493A85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4CB-9CEF-4F90-8B40-78950E98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820-684A-493F-B01A-6A3A2A78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077-7363-4BC9-9E0F-0AE101DC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9C6-CC01-4C94-AE5E-25F71EE6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C50-41E1-4CCC-9180-32CDDCDB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924-3396-4C8D-AF05-32CD7C2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EF2-B502-4E5F-B00E-9B65D8E2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744-F6FA-4505-B595-CCA44B34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49E-E7F6-4559-9F30-105BC41D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DDFB-54EF-4EC4-8ECC-E14FED5C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02C6-9F6D-4B97-8CB3-663FDC4F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2C47-6D8A-4EDD-8496-79779CF5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388C-2B42-45B1-AF46-8A0AC8EC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7CD5-1F96-49EE-8810-19153F82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573C-BF0C-4D68-8E63-397A74D1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7EB3-9409-4B59-908E-202720F9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2703-8F2B-49AD-A7E5-15E6B00F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E846-EB72-4D3A-8B27-3FE049EA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1E10-585A-4846-974F-7E51B31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3A49-1CF9-4D60-B2CF-3BA41C9E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560A-79B5-458C-AE70-571A03DC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E9E6-B5B7-4D40-B88B-98385D36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EDB5-DB9D-458A-8ADF-CB74F7B8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306B-861C-49C5-8866-5554100C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8802-6E73-4F8E-8639-73730B6E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F444-35EA-4E21-A956-39B665BB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5D37-DDD3-4EF1-9DD3-314E8294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1BD0-6941-4A19-AEA0-23BBB56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D141-3735-4361-A43B-91EDA5B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04CB-7E68-46E7-B701-7637CC2F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9310-5792-4B68-AF36-3774B2E8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CC9D5-F6D8-462E-863A-72EABD9A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0357-527A-438A-B1F6-F02900E6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BAF3-BB63-44DC-A817-2BA1E8E2DC9C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AB0B-1B3F-44E1-A9DA-62062DD64EC8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7214-AFCF-4639-B6EA-50780C310138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5144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 #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04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a video game using only pencils, index cards and d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t as a tool to help understand the game’s fundamental design princi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sweat the detai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a Paper Ver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y your game’s play aesthe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oose one aesthetic element to cap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o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sweat the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try to duplicate the whole ga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focus on simulating computer fun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 at 3:1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y to have something playable quick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ter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two testers to other tabl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until 3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share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did you cap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id you leave ou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7430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9620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 transcends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3521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understanding exist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se techniques for games in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is quick and 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don’t need programmers or art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5811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replace actual gameplay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head start and keep you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vocabulary to use when discussing your g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 a tool to educate programmers. Have them play,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G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698920" y="2200320"/>
          <a:ext cx="35496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200320"/>
                    <a:ext cx="35496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xample Ga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981080" y="2266920"/>
          <a:ext cx="482616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6920"/>
                    <a:ext cx="48261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asteroids-old"/>
          <p:cNvPicPr/>
          <p:nvPr/>
        </p:nvPicPr>
        <p:blipFill>
          <a:blip r:embed="rId1"/>
          <a:stretch/>
        </p:blipFill>
        <p:spPr>
          <a:xfrm>
            <a:off x="2666880" y="1047600"/>
            <a:ext cx="3962520" cy="3962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2665440" y="971640"/>
          <a:ext cx="4040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971640"/>
                    <a:ext cx="4040280" cy="403848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warcards"/>
          <p:cNvPicPr/>
          <p:nvPr/>
        </p:nvPicPr>
        <p:blipFill>
          <a:blip r:embed="rId1"/>
          <a:stretch/>
        </p:blipFill>
        <p:spPr>
          <a:xfrm>
            <a:off x="2590920" y="590400"/>
            <a:ext cx="41907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civ-soren"/>
          <p:cNvPicPr/>
          <p:nvPr/>
        </p:nvPicPr>
        <p:blipFill>
          <a:blip r:embed="rId1"/>
          <a:stretch/>
        </p:blipFill>
        <p:spPr>
          <a:xfrm>
            <a:off x="1905120" y="64764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digital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paper proto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survive the change in medi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some games to “unplug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into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2-13T00:24:38Z</dcterms:modified>
  <cp:revision>83</cp:revision>
  <dc:subject/>
  <dc:title>GDC 2005</dc:title>
</cp:coreProperties>
</file>