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EF34-9FB6-48B8-8CA2-0C75527525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EC64-4383-4842-AC6D-773C47E2E34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A133-B8AA-4B50-BA80-05920DAE9FD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54DB-0847-45B4-BCEA-CC459F23A4F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758-64C7-4912-990A-D53E2E4F8E7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D48-E18E-43E0-84A9-6F9ED092A08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34E9-D0F1-4257-8681-6AE67D7542B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FB44-155F-484B-A9EE-60BAA04BB12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8C0B-D8D7-42D0-9F04-4FA19237A15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6205-833E-4DD3-891A-484A39201DC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48F3-AE4A-43D3-AECF-44316F31699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8621-C159-4D2F-AA26-64F0707843A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1633-86DC-4288-BCA5-DEB3B5E1FE5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DF0-1862-4D14-B64D-FCA02FF3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78D-C2B9-4BC5-B47F-035F31DF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904-B92B-4E46-AD14-0291F6E3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D51-A62F-4CDD-B2CD-E501833C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E2C-AA27-4B5E-A25F-2C41B959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31D-2155-4A4F-8C8F-F7E4662D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ECB5-450A-4F95-A1C7-F80A9920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7B0E-FA79-46D6-A197-BD0309E4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06A-E115-4E19-855A-B28788B4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528-5616-40E7-ABE9-B2349F36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444-B280-4293-A5AA-250E7AB6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D23-D027-40A7-8135-061598C0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E13E-D8BF-4371-BBE5-AE06A335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2A11-8973-4921-A2BB-F05B03C3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90A9-70B5-42BE-8281-66E2B1DB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030A-EE5E-49F5-8D6A-CAEF12BA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75C0-40AA-481A-B3A5-3F7C5BC4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F58A-33F8-42F1-BE9B-5DB9AC56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BC31-1DD4-4EFB-BDB2-8CA93984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B50F-85C0-4D41-BE30-09ECA059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F766-C3C5-41ED-8FB9-31F53A49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720C-24D4-4D34-83B7-DA1E7A21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CAE6-C121-46C9-AA5C-6DA58FA2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FD4E-A117-48DA-B0AC-F8DD7B6D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7606-5159-4647-88EA-F0F98A8C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A5A3-31DE-4A11-9324-6A37CAAD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D2F2-9485-4057-B406-BCBCAF04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D320-55EB-41BE-97C1-3D1AB273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7BBD-A357-4409-816E-A7CD301F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5DB4B-BFC7-499A-817E-012B7FA2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301E-BA64-4691-AEEA-99087886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EACC-D27B-40BA-9810-B5E86B2F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B332-9D6A-4C02-902F-DD784D34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CE91A-B187-4DF1-BE21-1DAAAAF8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ACA0-7016-4BAF-A5C0-328203F8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2847-30CF-4DD3-BF5F-8B28B66A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938E-748E-45CA-8E14-5057ED7EBF7A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B460-C6FA-4F60-8E59-A89D82C638E9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5C56-37D4-4FCA-A51A-C440BC424DA5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5144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 #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504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a video game using only pencils, index cards and d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t as a tool to help understand the game’s fundamental design princi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sweat the detai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two testers to other table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until 3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share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did you captu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id you leave ou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7430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9620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 transcends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04920" y="13521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understanding exist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se techniques for games in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is quick and 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don’t need programmers or art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5811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replace actual gameplay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head start and keep you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vocabulary to use when discussing your g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as a tool to educate programmers. Have them play,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ctive 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on Game Designer 23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ebook Hoedown 2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lin’ GRUVI 2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G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2698920" y="2200320"/>
          <a:ext cx="35496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200320"/>
                    <a:ext cx="35496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xample Ga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981080" y="2266920"/>
          <a:ext cx="482616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6920"/>
                    <a:ext cx="48261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asteroids-old"/>
          <p:cNvPicPr/>
          <p:nvPr/>
        </p:nvPicPr>
        <p:blipFill>
          <a:blip r:embed="rId1"/>
          <a:stretch/>
        </p:blipFill>
        <p:spPr>
          <a:xfrm>
            <a:off x="2666880" y="1047600"/>
            <a:ext cx="3962520" cy="3962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2665440" y="971640"/>
          <a:ext cx="40402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971640"/>
                    <a:ext cx="4040280" cy="403848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digital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paper proto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survive the change in medi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some games to “unplug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into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a Paper Ver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y your game’s play aesthe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oose one aesthetic element to cap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o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sweat the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try to duplicate the whole ga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focus on simulating computer fun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 at 3:1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y to have something playable quick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tera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3-01T04:14:58Z</dcterms:modified>
  <cp:revision>84</cp:revision>
  <dc:subject/>
  <dc:title>GDC 2005</dc:title>
</cp:coreProperties>
</file>