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D98B-3617-481C-A218-4D5BB91055F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0A65-7B37-461A-AC88-B673139D3E8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F0C5-55DC-44D2-A32F-4EB71A7C38F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0370-690C-4400-A06D-FB190A6194B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1D7A-FEDB-476E-8C82-87C84B89CF9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0559-BA62-48BC-BED0-FB10F572540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9C18-F506-4271-849C-8D4EE61F394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7B63-ABE1-4926-8889-497F50C81D4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F705-8208-43F4-B12E-9A5D1097F9A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7FDE-26FC-424F-BDE0-BA7AD8B278E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4BE6-1B9D-49EE-8C0D-570ABDE527C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882E-4D75-4F6E-8C79-F770D6E53F0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ablo card ga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ill monsters, get treasure, buy better stuff, kill bigger monsters, get bigger treasures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82B7-E529-440F-94B9-775232CD979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6405-2E7E-4B98-AC8C-2F8E9840C80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A69C-2845-44E8-A92F-5C56CA89234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448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9580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52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448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9580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520" y="818640"/>
            <a:ext cx="807696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6448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9580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352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6448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9580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50AD-DFB9-4C27-A0D4-A53F8ACF0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BA47-F705-4FF5-A9E4-CE36D043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2B0D-5374-4061-8A79-0647EC4B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B272-646A-49EC-8060-148EC079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8ACB-B8C7-472B-8877-6799FD99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533520" y="818640"/>
            <a:ext cx="807696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AACD-12D2-411C-B997-82423271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C947-FBA4-4471-B731-4CA8ED20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ADE2-D8AC-4853-B27C-45877DCE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CBCC-3C25-4CED-9598-91AEE994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A746-41C0-43AA-8F1D-35EFDA66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9560-655D-4C9B-8727-55DDC5B9A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6448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9580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3352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6448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9580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745C-3570-4E86-8A66-3E88BDBC4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BCFC4-029F-4080-9C52-4F432DAE5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08E0-94A4-46F5-BF3C-912DD4FEF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B9DF-4B65-4617-9E3A-E1BB92F7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8CD35-DC86-40C4-8CF5-6852EB8A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B4A6-6DA8-441F-B56B-6A97B225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533520" y="818640"/>
            <a:ext cx="807696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3848-279A-4158-9896-E3064DC5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03F3A-474C-45BF-B8FD-A2A8785D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4EECA-D9F0-4FB7-AD58-562CEC2F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F8A6-FC3C-4139-B084-DD54A312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E078-480A-4361-A95E-68FCF4E1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F4D5-28FB-4E47-99B8-0057487C7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6448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9580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3352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6448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9580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75EA-C114-4609-9AA7-D3CD2E28F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1DDA3-8821-4939-9E7A-2311BEC93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58CD4-7127-4245-B962-6AAC5826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9C2C9-5832-4EA5-B009-8BC744A1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0D9DC-ABDB-4850-B3EE-BA344BD1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8404D-1E79-4BE5-99BE-AF24398D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533520" y="818640"/>
            <a:ext cx="807696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46FBF-4B4A-44D3-808D-406E5F6C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EE11F-AE80-4F04-8BA2-B073CB7D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35845-D1B6-42B0-B549-BE383A06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228D5-07A0-4623-A6AD-0E66C41F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1CCED-4325-4BC2-99DE-6780BBCA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62337-C815-49B4-B89C-84D8D903B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520" y="818640"/>
            <a:ext cx="807696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6448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9580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3352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6448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9580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85C36-96F1-4C1C-8D8C-7A7B4C371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GDC1011_2011_PPT_Template-Content_FINA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99880" indent="-17136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4" descr="GDC1011_2011_PPT_Template-Mai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99880" indent="-17136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GDC1011_2011_PPT_Template-Content_FINA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99880" indent="-17136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78AD-8022-4758-B631-B8A39E89B6B3}" type="slidenum">
              <a:rPr b="0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GDC1011_2011_PPT_Template-Content_FINA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99880" indent="-17136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8064-0C04-4D74-9E58-7CD4DA50DC81}" type="slidenum">
              <a:rPr b="0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GDC1011_2011_PPT_Template-Content_FINA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99880" indent="-17136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107D-A1E5-4656-9C20-0580D0828793}" type="slidenum">
              <a:rPr b="0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514440"/>
            <a:ext cx="807696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xercise #2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33520" y="150480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ulate a video game using only pencils, index cards and di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it as a tool to help understand the game’s fundamental design princip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n’t sweat the detai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uild a Paper Vers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To 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dentify your game’s play aesthetic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hoose one aesthetic element to capt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Not to 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spcAft>
                <a:spcPts val="1188"/>
              </a:spcAft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n’t sweat the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spcAft>
                <a:spcPts val="1188"/>
              </a:spcAft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n’t try to duplicate the whole ga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spcAft>
                <a:spcPts val="1188"/>
              </a:spcAft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n’t focus on simulating computer functio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eta Test at 3:15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ry to have something playable quickly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terate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eta Tes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d two testers to other tables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st until 3:4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iscuss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t’s share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aesthetics did you captur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did you leave out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743040"/>
            <a:ext cx="807696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e Messag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33520" y="196200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y transcends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chan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ynam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esthe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metim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04920" y="1352160"/>
            <a:ext cx="86104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 for understanding existing ga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these techniques for games in progr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ess is quick and chea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don’t need programmers or arti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3614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sing Paper Prototyp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3614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sing Paper Prototyp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15811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spcAft>
                <a:spcPts val="1500"/>
              </a:spcAft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’t replace actual gameplay tes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spcAft>
                <a:spcPts val="1500"/>
              </a:spcAft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give you a head start and keep you foc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spcAft>
                <a:spcPts val="1500"/>
              </a:spcAft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give you a vocabulary to use when discussing your ga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spcAft>
                <a:spcPts val="1500"/>
              </a:spcAft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be used as a tool to educate programmers. Have them play, too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3"/>
          <p:cNvSpPr/>
          <p:nvPr/>
        </p:nvSpPr>
        <p:spPr>
          <a:xfrm>
            <a:off x="1905120" y="2057400"/>
            <a:ext cx="5105160" cy="2800440"/>
          </a:xfrm>
          <a:prstGeom prst="rect">
            <a:avLst/>
          </a:prstGeom>
          <a:solidFill>
            <a:srgbClr val="606fae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1905120" y="1447920"/>
            <a:ext cx="510516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Tony Hawk’s Pro Skat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285840"/>
            <a:ext cx="807696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xample Gam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6" name="Object 2"/>
          <p:cNvGraphicFramePr/>
          <p:nvPr/>
        </p:nvGraphicFramePr>
        <p:xfrm>
          <a:off x="2698920" y="2200320"/>
          <a:ext cx="3549600" cy="25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8920" y="2200320"/>
                    <a:ext cx="3549600" cy="25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4"/>
          <p:cNvSpPr/>
          <p:nvPr/>
        </p:nvSpPr>
        <p:spPr>
          <a:xfrm>
            <a:off x="533520" y="285840"/>
            <a:ext cx="807696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Example Gam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1905120" y="2057400"/>
            <a:ext cx="5105160" cy="2800440"/>
          </a:xfrm>
          <a:prstGeom prst="rect">
            <a:avLst/>
          </a:prstGeom>
          <a:solidFill>
            <a:srgbClr val="606fae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20" name="Object 2"/>
          <p:cNvGraphicFramePr/>
          <p:nvPr/>
        </p:nvGraphicFramePr>
        <p:xfrm>
          <a:off x="1981080" y="2266920"/>
          <a:ext cx="4826160" cy="24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266920"/>
                    <a:ext cx="4826160" cy="24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Rectangle 11"/>
          <p:cNvSpPr/>
          <p:nvPr/>
        </p:nvSpPr>
        <p:spPr>
          <a:xfrm>
            <a:off x="1905120" y="1447920"/>
            <a:ext cx="510516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Tony Hawk’s Pro Skat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3"/>
          <p:cNvSpPr/>
          <p:nvPr/>
        </p:nvSpPr>
        <p:spPr>
          <a:xfrm>
            <a:off x="152280" y="438120"/>
            <a:ext cx="8991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Asteroi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Picture 4" descr="asteroids-old"/>
          <p:cNvPicPr/>
          <p:nvPr/>
        </p:nvPicPr>
        <p:blipFill>
          <a:blip r:embed="rId1"/>
          <a:stretch/>
        </p:blipFill>
        <p:spPr>
          <a:xfrm>
            <a:off x="2666880" y="1047600"/>
            <a:ext cx="3962520" cy="39625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Object 2"/>
          <p:cNvGraphicFramePr/>
          <p:nvPr/>
        </p:nvGraphicFramePr>
        <p:xfrm>
          <a:off x="2665440" y="971640"/>
          <a:ext cx="404028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5440" y="971640"/>
                    <a:ext cx="4040280" cy="4038480"/>
                  </a:xfrm>
                  <a:prstGeom prst="rect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7" name="Rectangle 5"/>
          <p:cNvSpPr/>
          <p:nvPr/>
        </p:nvSpPr>
        <p:spPr>
          <a:xfrm>
            <a:off x="152280" y="438120"/>
            <a:ext cx="8991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Asteroi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3" descr="warcards"/>
          <p:cNvPicPr/>
          <p:nvPr/>
        </p:nvPicPr>
        <p:blipFill>
          <a:blip r:embed="rId1"/>
          <a:stretch/>
        </p:blipFill>
        <p:spPr>
          <a:xfrm>
            <a:off x="2590920" y="590400"/>
            <a:ext cx="4190760" cy="43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6" descr="civ-soren"/>
          <p:cNvPicPr/>
          <p:nvPr/>
        </p:nvPicPr>
        <p:blipFill>
          <a:blip r:embed="rId1"/>
          <a:stretch/>
        </p:blipFill>
        <p:spPr>
          <a:xfrm>
            <a:off x="1905120" y="647640"/>
            <a:ext cx="5715000" cy="42861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xercis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a digital ga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 a paper prototy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aesthetics survive the change in medium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rainstorm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some games to “unplug.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eak into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22:56:43Z</dcterms:created>
  <dc:creator>Jamil Moledina</dc:creator>
  <dc:description/>
  <dc:language>en-US</dc:language>
  <cp:lastModifiedBy>MAHK</cp:lastModifiedBy>
  <cp:lastPrinted>1904-01-01T00:00:00Z</cp:lastPrinted>
  <dcterms:modified xsi:type="dcterms:W3CDTF">2011-02-13T00:24:38Z</dcterms:modified>
  <cp:revision>83</cp:revision>
  <dc:subject/>
  <dc:title>GDC 2005</dc:title>
</cp:coreProperties>
</file>