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20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F654-836F-4D47-8F45-C3C095F7B5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68CD-4243-4CE9-8DF5-BCBFBAB1EF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7BAD-E3FC-4751-84E7-021FCE2393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0E4B-CA07-4916-9107-71F0CF17DB0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A928-0E84-44BB-A85E-741986D962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1141-9412-4174-AE1A-E9A659AF358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3D62-1DFA-47E5-9D4E-9D68ADFDA64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6356-AF92-42B2-915D-55A153FA4F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5C7D-A0C9-452A-B2AB-F9F059D4922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C7BD-A680-4468-B63D-017B3DDE96A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D877-066F-4F4A-8C79-C5B21B13577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2A18-A017-4939-9C47-4964D7F513C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8A8C-2520-4A46-9EAF-E63E1FC64C9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0694-4465-4E93-BDBB-A2D0C02E1C6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FBDB-D2C8-416D-8C47-1BCE4034FD6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AA5C-E069-4ABB-84C7-B63E6F18997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10A8-209E-441D-9DB5-8A7AE1D4FA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A633-3AD3-4C3E-A9E8-1EA4D954432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84CE-5882-4B60-BDFA-F833B81FB9A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75B3-6019-49D7-8AAB-2810A8D433F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0102-1B8C-43B6-907A-2ADA6C9771C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4877-BD96-452C-894C-C7D56CFB6C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570D-D11E-4E7F-AFA4-7683DBCF0F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98B1-C182-4185-A0DE-9755148E22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91A7-8C94-439D-BBC4-F80F7D6964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ABF-1CAC-4F39-9E76-8CE2E8D4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131-E828-469E-BD4A-6311DB78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5B90-4FF0-4E97-9614-D33C5DE8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694-442B-4429-A9CC-0032C465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AA1-10E6-4EA3-9287-4BEEAD1A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641C-CA63-4C56-A380-94E4C2BD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4E7-00F1-4F87-9597-BB20EE80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86C-9EC8-4275-899E-2758C3E3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F54-8B88-4DA1-89E5-37F9379D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A24-7F29-42A9-8B96-101562A7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40A-B5EC-47B3-83CA-1C43D697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3EB-8CD8-4E71-9A22-8D987F7D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DC47-CEC7-478C-9DE6-B326B392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C63E-DBCB-4FB1-B7F3-68CB64C4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C050-9BEF-4A03-89EF-94028E9E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E9E3-B6C7-4874-A9F6-B0A6693C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7592-254E-4405-845A-029309D4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EB37-2202-42E4-83B2-9EA1C2C7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F545-D15D-490F-9427-6D06834A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5E92-2779-4663-ACD6-04E4269F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EB41-4947-48B9-827A-04C443C9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563F-7030-4EE9-A229-7AFE7472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745F-18FB-4933-AEB0-12CE46EF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777A-E914-4FA9-9F54-D5D85194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12869-D662-4209-990A-D84445F3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A2280-F905-46F0-9E3A-4F960289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00B16-9EC5-4297-A26A-080B7FA1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21548-D839-4547-8AA3-C2177551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57BFF-F467-418B-8585-27B51F39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1EF37-59AB-48B5-966E-E14017A8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3B4A7-5BC0-4364-9C80-59AD71CC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7A457-648E-42E9-8DB1-8FE8CA08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4047F-789A-4658-A374-C917097E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53E51-0A25-499B-A47A-CAE94E5D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43C9C-2F64-4C5E-93D5-C663CE67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AA901-65A7-47B1-A825-0163AF83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GDC1011_2011_PPT_Template-Mai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71D1-1441-4CD8-8ACA-51B238DD1DB0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2C4E-F907-4D3D-AFD4-78A083DD7D6B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9BC4-5858-461B-B23C-C7B496C52686}" type="slidenum">
              <a:rPr b="0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Is this thing on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3520" y="2038320"/>
            <a:ext cx="8076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7560" y="343080"/>
            <a:ext cx="61722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ail Fa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3" descr="21be6c83-2cfe-4ab0-8538-da1c95c4b03f.jpg"/>
          <p:cNvPicPr/>
          <p:nvPr/>
        </p:nvPicPr>
        <p:blipFill>
          <a:blip r:embed="rId1"/>
          <a:srcRect l="0" t="23915" r="709" b="16305"/>
          <a:stretch/>
        </p:blipFill>
        <p:spPr>
          <a:xfrm>
            <a:off x="1981080" y="1246320"/>
            <a:ext cx="502920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3"/>
          <p:cNvSpPr/>
          <p:nvPr/>
        </p:nvSpPr>
        <p:spPr>
          <a:xfrm>
            <a:off x="3695760" y="1657440"/>
            <a:ext cx="1752480" cy="342720"/>
          </a:xfrm>
          <a:prstGeom prst="rightArrow">
            <a:avLst>
              <a:gd name="adj1" fmla="val 50000"/>
              <a:gd name="adj2" fmla="val 9587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AutoShape 7"/>
          <p:cNvSpPr/>
          <p:nvPr/>
        </p:nvSpPr>
        <p:spPr>
          <a:xfrm rot="7615200">
            <a:off x="5200560" y="2495520"/>
            <a:ext cx="685800" cy="495360"/>
          </a:xfrm>
          <a:prstGeom prst="rightArrow">
            <a:avLst>
              <a:gd name="adj1" fmla="val 50000"/>
              <a:gd name="adj2" fmla="val 4614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AutoShape 8"/>
          <p:cNvSpPr/>
          <p:nvPr/>
        </p:nvSpPr>
        <p:spPr>
          <a:xfrm flipV="1" rot="13984800">
            <a:off x="3143160" y="2552400"/>
            <a:ext cx="685800" cy="495360"/>
          </a:xfrm>
          <a:prstGeom prst="rightArrow">
            <a:avLst>
              <a:gd name="adj1" fmla="val 50000"/>
              <a:gd name="adj2" fmla="val 4614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28640" y="438120"/>
            <a:ext cx="289548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ail Fa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3902040" y="1919160"/>
            <a:ext cx="1479600" cy="385920"/>
          </a:xfrm>
          <a:prstGeom prst="rightArrow">
            <a:avLst>
              <a:gd name="adj1" fmla="val 50000"/>
              <a:gd name="adj2" fmla="val 95796"/>
            </a:avLst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0" name="Oval 4"/>
          <p:cNvGrpSpPr/>
          <p:nvPr/>
        </p:nvGrpSpPr>
        <p:grpSpPr>
          <a:xfrm>
            <a:off x="2114640" y="1322280"/>
            <a:ext cx="1652400" cy="1652760"/>
            <a:chOff x="2114640" y="1322280"/>
            <a:chExt cx="1652400" cy="1652760"/>
          </a:xfrm>
        </p:grpSpPr>
        <p:pic>
          <p:nvPicPr>
            <p:cNvPr id="241" name="Oval 4" descr=""/>
            <p:cNvPicPr/>
            <p:nvPr/>
          </p:nvPicPr>
          <p:blipFill>
            <a:blip r:embed="rId1"/>
            <a:stretch/>
          </p:blipFill>
          <p:spPr>
            <a:xfrm>
              <a:off x="2114640" y="1322280"/>
              <a:ext cx="16524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368440" y="1576440"/>
              <a:ext cx="113832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est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3" name="Oval 6"/>
          <p:cNvSpPr/>
          <p:nvPr/>
        </p:nvSpPr>
        <p:spPr>
          <a:xfrm>
            <a:off x="3807000" y="3335400"/>
            <a:ext cx="1606320" cy="1608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6600"/>
              </a:gs>
              <a:gs pos="100000">
                <a:srgbClr val="ffffff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AutoShape 7"/>
          <p:cNvSpPr/>
          <p:nvPr/>
        </p:nvSpPr>
        <p:spPr>
          <a:xfrm rot="7615200">
            <a:off x="5076720" y="2931840"/>
            <a:ext cx="771480" cy="419040"/>
          </a:xfrm>
          <a:prstGeom prst="rightArrow">
            <a:avLst>
              <a:gd name="adj1" fmla="val 50000"/>
              <a:gd name="adj2" fmla="val 46154"/>
            </a:avLst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AutoShape 8"/>
          <p:cNvSpPr/>
          <p:nvPr/>
        </p:nvSpPr>
        <p:spPr>
          <a:xfrm flipV="1" rot="13984800">
            <a:off x="3339360" y="2995920"/>
            <a:ext cx="772920" cy="418680"/>
          </a:xfrm>
          <a:prstGeom prst="rightArrow">
            <a:avLst>
              <a:gd name="adj1" fmla="val 50000"/>
              <a:gd name="adj2" fmla="val 46186"/>
            </a:avLst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6" name="Oval 5"/>
          <p:cNvGrpSpPr/>
          <p:nvPr/>
        </p:nvGrpSpPr>
        <p:grpSpPr>
          <a:xfrm>
            <a:off x="5614920" y="1407960"/>
            <a:ext cx="1650960" cy="1652760"/>
            <a:chOff x="5614920" y="1407960"/>
            <a:chExt cx="1650960" cy="1652760"/>
          </a:xfrm>
        </p:grpSpPr>
        <p:pic>
          <p:nvPicPr>
            <p:cNvPr id="247" name="Oval 5" descr=""/>
            <p:cNvPicPr/>
            <p:nvPr/>
          </p:nvPicPr>
          <p:blipFill>
            <a:blip r:embed="rId2"/>
            <a:stretch/>
          </p:blipFill>
          <p:spPr>
            <a:xfrm>
              <a:off x="5614920" y="1407960"/>
              <a:ext cx="165096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865840" y="1663560"/>
              <a:ext cx="113832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9" name="Oval 5"/>
          <p:cNvSpPr/>
          <p:nvPr/>
        </p:nvSpPr>
        <p:spPr>
          <a:xfrm>
            <a:off x="5486400" y="1420920"/>
            <a:ext cx="167652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Analyz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Oval 5"/>
          <p:cNvSpPr/>
          <p:nvPr/>
        </p:nvSpPr>
        <p:spPr>
          <a:xfrm>
            <a:off x="3733920" y="3714840"/>
            <a:ext cx="167616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Revi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3"/>
          <p:cNvSpPr/>
          <p:nvPr/>
        </p:nvSpPr>
        <p:spPr>
          <a:xfrm>
            <a:off x="3695760" y="1657440"/>
            <a:ext cx="1752480" cy="342720"/>
          </a:xfrm>
          <a:prstGeom prst="rightArrow">
            <a:avLst>
              <a:gd name="adj1" fmla="val 50000"/>
              <a:gd name="adj2" fmla="val 9587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AutoShape 7"/>
          <p:cNvSpPr/>
          <p:nvPr/>
        </p:nvSpPr>
        <p:spPr>
          <a:xfrm rot="7615200">
            <a:off x="5200560" y="2495520"/>
            <a:ext cx="685800" cy="495360"/>
          </a:xfrm>
          <a:prstGeom prst="rightArrow">
            <a:avLst>
              <a:gd name="adj1" fmla="val 50000"/>
              <a:gd name="adj2" fmla="val 4614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AutoShape 8"/>
          <p:cNvSpPr/>
          <p:nvPr/>
        </p:nvSpPr>
        <p:spPr>
          <a:xfrm flipV="1" rot="13984800">
            <a:off x="3143160" y="2552400"/>
            <a:ext cx="685800" cy="495360"/>
          </a:xfrm>
          <a:prstGeom prst="rightArrow">
            <a:avLst>
              <a:gd name="adj1" fmla="val 50000"/>
              <a:gd name="adj2" fmla="val 4614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409720" y="3619440"/>
            <a:ext cx="35816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llow the Fun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902040" y="1919160"/>
            <a:ext cx="1479600" cy="385920"/>
          </a:xfrm>
          <a:prstGeom prst="rightArrow">
            <a:avLst>
              <a:gd name="adj1" fmla="val 50000"/>
              <a:gd name="adj2" fmla="val 95796"/>
            </a:avLst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6" name="Oval 4"/>
          <p:cNvGrpSpPr/>
          <p:nvPr/>
        </p:nvGrpSpPr>
        <p:grpSpPr>
          <a:xfrm>
            <a:off x="2114640" y="1322280"/>
            <a:ext cx="1652400" cy="1652760"/>
            <a:chOff x="2114640" y="1322280"/>
            <a:chExt cx="1652400" cy="1652760"/>
          </a:xfrm>
        </p:grpSpPr>
        <p:pic>
          <p:nvPicPr>
            <p:cNvPr id="257" name="Oval 4" descr=""/>
            <p:cNvPicPr/>
            <p:nvPr/>
          </p:nvPicPr>
          <p:blipFill>
            <a:blip r:embed="rId1"/>
            <a:stretch/>
          </p:blipFill>
          <p:spPr>
            <a:xfrm>
              <a:off x="2114640" y="1322280"/>
              <a:ext cx="16524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2368440" y="1576440"/>
              <a:ext cx="113832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est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59" name="Oval 6"/>
          <p:cNvSpPr/>
          <p:nvPr/>
        </p:nvSpPr>
        <p:spPr>
          <a:xfrm>
            <a:off x="3807000" y="3335400"/>
            <a:ext cx="1606320" cy="1608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6600"/>
              </a:gs>
              <a:gs pos="100000">
                <a:srgbClr val="ffffff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AutoShape 7"/>
          <p:cNvSpPr/>
          <p:nvPr/>
        </p:nvSpPr>
        <p:spPr>
          <a:xfrm rot="7615200">
            <a:off x="5076720" y="2931840"/>
            <a:ext cx="771480" cy="419040"/>
          </a:xfrm>
          <a:prstGeom prst="rightArrow">
            <a:avLst>
              <a:gd name="adj1" fmla="val 50000"/>
              <a:gd name="adj2" fmla="val 46154"/>
            </a:avLst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AutoShape 8"/>
          <p:cNvSpPr/>
          <p:nvPr/>
        </p:nvSpPr>
        <p:spPr>
          <a:xfrm flipV="1" rot="13984800">
            <a:off x="3339360" y="2995920"/>
            <a:ext cx="772920" cy="418680"/>
          </a:xfrm>
          <a:prstGeom prst="rightArrow">
            <a:avLst>
              <a:gd name="adj1" fmla="val 50000"/>
              <a:gd name="adj2" fmla="val 46186"/>
            </a:avLst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2" name="Oval 5"/>
          <p:cNvGrpSpPr/>
          <p:nvPr/>
        </p:nvGrpSpPr>
        <p:grpSpPr>
          <a:xfrm>
            <a:off x="5614920" y="1407960"/>
            <a:ext cx="1650960" cy="1652760"/>
            <a:chOff x="5614920" y="1407960"/>
            <a:chExt cx="1650960" cy="1652760"/>
          </a:xfrm>
        </p:grpSpPr>
        <p:pic>
          <p:nvPicPr>
            <p:cNvPr id="263" name="Oval 5" descr=""/>
            <p:cNvPicPr/>
            <p:nvPr/>
          </p:nvPicPr>
          <p:blipFill>
            <a:blip r:embed="rId2"/>
            <a:stretch/>
          </p:blipFill>
          <p:spPr>
            <a:xfrm>
              <a:off x="5614920" y="1407960"/>
              <a:ext cx="165096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865840" y="1663560"/>
              <a:ext cx="113832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65" name="Oval 5"/>
          <p:cNvSpPr/>
          <p:nvPr/>
        </p:nvSpPr>
        <p:spPr>
          <a:xfrm>
            <a:off x="5486400" y="1420920"/>
            <a:ext cx="167652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Analyz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Oval 5"/>
          <p:cNvSpPr/>
          <p:nvPr/>
        </p:nvSpPr>
        <p:spPr>
          <a:xfrm>
            <a:off x="3733920" y="3714840"/>
            <a:ext cx="167616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Revi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3429000" y="438120"/>
            <a:ext cx="28954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Fail Fast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D Talk: Marshmallow Challeng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TomWujec_2010U.mp4" descr=""/>
          <p:cNvPicPr/>
          <p:nvPr/>
        </p:nvPicPr>
        <p:blipFill>
          <a:blip r:embed="rId1"/>
          <a:stretch/>
        </p:blipFill>
        <p:spPr>
          <a:xfrm>
            <a:off x="3048120" y="22669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Channel your inner kindergartener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33520" y="2038320"/>
            <a:ext cx="8076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eak Into Room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 poker chip col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3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t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2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ame/Software Parallel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33520" y="2038320"/>
            <a:ext cx="8076960" cy="2743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C:\Documents and Settings\mahk\My Documents\My Pictures\abacus.jpg"/>
          <p:cNvPicPr/>
          <p:nvPr/>
        </p:nvPicPr>
        <p:blipFill>
          <a:blip r:embed="rId2"/>
          <a:stretch/>
        </p:blipFill>
        <p:spPr>
          <a:xfrm>
            <a:off x="4648320" y="2114640"/>
            <a:ext cx="3504960" cy="1571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C:\Documents and Settings\mahk\My Documents\My Pictures\chess-(b).jpg"/>
          <p:cNvPicPr/>
          <p:nvPr/>
        </p:nvPicPr>
        <p:blipFill>
          <a:blip r:embed="rId3"/>
          <a:stretch/>
        </p:blipFill>
        <p:spPr>
          <a:xfrm>
            <a:off x="380880" y="2090880"/>
            <a:ext cx="3429000" cy="16812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9"/>
          <p:cNvSpPr/>
          <p:nvPr/>
        </p:nvSpPr>
        <p:spPr>
          <a:xfrm>
            <a:off x="4004280" y="240048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MDA Framewor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3520" y="2038320"/>
            <a:ext cx="807696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81" name="Group 3"/>
          <p:cNvGrpSpPr/>
          <p:nvPr/>
        </p:nvGrpSpPr>
        <p:grpSpPr>
          <a:xfrm>
            <a:off x="1143000" y="2000160"/>
            <a:ext cx="6933960" cy="1543320"/>
            <a:chOff x="1143000" y="2000160"/>
            <a:chExt cx="6933960" cy="1543320"/>
          </a:xfrm>
        </p:grpSpPr>
        <p:cxnSp>
          <p:nvCxnSpPr>
            <p:cNvPr id="282" name="AutoShape 4"/>
            <p:cNvCxnSpPr>
              <a:stCxn id="283" idx="3"/>
              <a:endCxn id="284" idx="1"/>
            </p:cNvCxnSpPr>
            <p:nvPr/>
          </p:nvCxnSpPr>
          <p:spPr>
            <a:xfrm>
              <a:off x="3327480" y="2771640"/>
              <a:ext cx="18432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lg"/>
            </a:ln>
          </p:spPr>
        </p:cxnSp>
        <p:cxnSp>
          <p:nvCxnSpPr>
            <p:cNvPr id="285" name="AutoShape 5"/>
            <p:cNvCxnSpPr>
              <a:stCxn id="284" idx="3"/>
              <a:endCxn id="286" idx="1"/>
            </p:cNvCxnSpPr>
            <p:nvPr/>
          </p:nvCxnSpPr>
          <p:spPr>
            <a:xfrm>
              <a:off x="5708520" y="2771640"/>
              <a:ext cx="18468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lg"/>
            </a:ln>
          </p:spPr>
        </p:cxnSp>
        <p:sp>
          <p:nvSpPr>
            <p:cNvPr id="283" name="Rectangle 6"/>
            <p:cNvSpPr/>
            <p:nvPr/>
          </p:nvSpPr>
          <p:spPr>
            <a:xfrm>
              <a:off x="1143000" y="2000160"/>
              <a:ext cx="2171160" cy="1543320"/>
            </a:xfrm>
            <a:prstGeom prst="rect">
              <a:avLst/>
            </a:prstGeom>
            <a:solidFill>
              <a:srgbClr val="33c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Arial Narrow"/>
                </a:rPr>
                <a:t>Mechanics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4" name="Rectangle 7"/>
            <p:cNvSpPr/>
            <p:nvPr/>
          </p:nvSpPr>
          <p:spPr>
            <a:xfrm>
              <a:off x="3524400" y="2000160"/>
              <a:ext cx="2171160" cy="15433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Arial Narrow"/>
                </a:rPr>
                <a:t>Dynamics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6" name="Rectangle 8"/>
            <p:cNvSpPr/>
            <p:nvPr/>
          </p:nvSpPr>
          <p:spPr>
            <a:xfrm>
              <a:off x="5906160" y="2000160"/>
              <a:ext cx="2170800" cy="15433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Arial Narrow"/>
                </a:rPr>
                <a:t>Aesthetics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bomb"/>
          <p:cNvPicPr/>
          <p:nvPr/>
        </p:nvPicPr>
        <p:blipFill>
          <a:blip r:embed="rId1"/>
          <a:stretch/>
        </p:blipFill>
        <p:spPr>
          <a:xfrm rot="20856600">
            <a:off x="6095880" y="2514240"/>
            <a:ext cx="914400" cy="700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golf"/>
          <p:cNvPicPr/>
          <p:nvPr/>
        </p:nvPicPr>
        <p:blipFill>
          <a:blip r:embed="rId2"/>
          <a:stretch/>
        </p:blipFill>
        <p:spPr>
          <a:xfrm>
            <a:off x="5638680" y="3600360"/>
            <a:ext cx="1000080" cy="8366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echan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uffling, Trick-Taking, Bid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o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munition, Spaw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l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nd Traps, Water Haz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2" descr="C:\Users\MAHK\AppData\Local\Microsoft\Windows\Temporary Internet Files\Content.IE5\0DELC13B\MC900431537[1].png"/>
          <p:cNvPicPr/>
          <p:nvPr/>
        </p:nvPicPr>
        <p:blipFill>
          <a:blip r:embed="rId3"/>
          <a:stretch/>
        </p:blipFill>
        <p:spPr>
          <a:xfrm>
            <a:off x="6172200" y="1200240"/>
            <a:ext cx="18381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1001880" y="1257480"/>
            <a:ext cx="1925640" cy="11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4"/>
          <p:cNvSpPr/>
          <p:nvPr/>
        </p:nvSpPr>
        <p:spPr>
          <a:xfrm>
            <a:off x="3000240" y="2089080"/>
            <a:ext cx="2443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Line 5"/>
          <p:cNvSpPr/>
          <p:nvPr/>
        </p:nvSpPr>
        <p:spPr>
          <a:xfrm flipH="1" flipV="1">
            <a:off x="2778120" y="3588840"/>
            <a:ext cx="2665440" cy="1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Line 6"/>
          <p:cNvSpPr/>
          <p:nvPr/>
        </p:nvSpPr>
        <p:spPr>
          <a:xfrm flipH="1">
            <a:off x="2778120" y="3922560"/>
            <a:ext cx="2665440" cy="1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Line 7"/>
          <p:cNvSpPr/>
          <p:nvPr/>
        </p:nvSpPr>
        <p:spPr>
          <a:xfrm>
            <a:off x="5943600" y="268596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7" name="Picture 10" descr="therm"/>
          <p:cNvPicPr/>
          <p:nvPr/>
        </p:nvPicPr>
        <p:blipFill>
          <a:blip r:embed="rId1"/>
          <a:stretch/>
        </p:blipFill>
        <p:spPr>
          <a:xfrm>
            <a:off x="5518080" y="1368360"/>
            <a:ext cx="831960" cy="1332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control"/>
          <p:cNvPicPr/>
          <p:nvPr/>
        </p:nvPicPr>
        <p:blipFill>
          <a:blip r:embed="rId2"/>
          <a:stretch/>
        </p:blipFill>
        <p:spPr>
          <a:xfrm>
            <a:off x="5518080" y="3645000"/>
            <a:ext cx="1541520" cy="406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2" descr="cooler"/>
          <p:cNvPicPr/>
          <p:nvPr/>
        </p:nvPicPr>
        <p:blipFill>
          <a:blip r:embed="rId3"/>
          <a:stretch/>
        </p:blipFill>
        <p:spPr>
          <a:xfrm>
            <a:off x="1001880" y="3754440"/>
            <a:ext cx="1677960" cy="787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3" descr="heater"/>
          <p:cNvPicPr/>
          <p:nvPr/>
        </p:nvPicPr>
        <p:blipFill>
          <a:blip r:embed="rId4"/>
          <a:stretch/>
        </p:blipFill>
        <p:spPr>
          <a:xfrm>
            <a:off x="1001880" y="2979720"/>
            <a:ext cx="1703160" cy="795240"/>
          </a:xfrm>
          <a:prstGeom prst="rect">
            <a:avLst/>
          </a:prstGeom>
          <a:ln w="0">
            <a:noFill/>
          </a:ln>
        </p:spPr>
      </p:pic>
      <p:sp>
        <p:nvSpPr>
          <p:cNvPr id="301" name="Freeform 14"/>
          <p:cNvSpPr/>
          <p:nvPr/>
        </p:nvSpPr>
        <p:spPr>
          <a:xfrm>
            <a:off x="743040" y="2422440"/>
            <a:ext cx="258840" cy="9446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Freeform 15"/>
          <p:cNvSpPr/>
          <p:nvPr/>
        </p:nvSpPr>
        <p:spPr>
          <a:xfrm>
            <a:off x="434880" y="2144880"/>
            <a:ext cx="567000" cy="177768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ynam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533520" y="2038320"/>
            <a:ext cx="8076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ame Design Workshop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33520" y="302904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DC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2209680" y="1922400"/>
            <a:ext cx="5943600" cy="3075480"/>
            <a:chOff x="2209680" y="1922400"/>
            <a:chExt cx="5943600" cy="3075480"/>
          </a:xfrm>
        </p:grpSpPr>
        <p:graphicFrame>
          <p:nvGraphicFramePr>
            <p:cNvPr id="306" name="Object 3"/>
            <p:cNvGraphicFramePr/>
            <p:nvPr/>
          </p:nvGraphicFramePr>
          <p:xfrm>
            <a:off x="2209680" y="1922400"/>
            <a:ext cx="5943600" cy="3001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7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09680" y="1922400"/>
                      <a:ext cx="5943600" cy="300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Text Box 4"/>
            <p:cNvSpPr/>
            <p:nvPr/>
          </p:nvSpPr>
          <p:spPr>
            <a:xfrm rot="16200000">
              <a:off x="1919520" y="3074760"/>
              <a:ext cx="15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</a:rPr>
                <a:t>Chance in 36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9" name="Text Box 5"/>
            <p:cNvSpPr/>
            <p:nvPr/>
          </p:nvSpPr>
          <p:spPr>
            <a:xfrm>
              <a:off x="4701600" y="462960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</a:rPr>
                <a:t>Die roll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310" name="Picture 6" descr="dice"/>
          <p:cNvPicPr/>
          <p:nvPr/>
        </p:nvPicPr>
        <p:blipFill>
          <a:blip r:embed="rId3"/>
          <a:stretch/>
        </p:blipFill>
        <p:spPr>
          <a:xfrm>
            <a:off x="457200" y="3143160"/>
            <a:ext cx="1752480" cy="1170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ynam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533520" y="2038320"/>
            <a:ext cx="8076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sychology = Human Dynam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cep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ribution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gnitive Disso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Object 3"/>
          <p:cNvGraphicFramePr/>
          <p:nvPr/>
        </p:nvGraphicFramePr>
        <p:xfrm>
          <a:off x="2209680" y="1922400"/>
          <a:ext cx="594360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22400"/>
                    <a:ext cx="594360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7" name="Picture 6" descr="dice"/>
          <p:cNvPicPr/>
          <p:nvPr/>
        </p:nvPicPr>
        <p:blipFill>
          <a:blip r:embed="rId3"/>
          <a:stretch/>
        </p:blipFill>
        <p:spPr>
          <a:xfrm>
            <a:off x="457200" y="3143160"/>
            <a:ext cx="1752480" cy="1170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ometimes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533520" y="2038320"/>
            <a:ext cx="8076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Idea of Dynam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havior is separate from ru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e behavior can emerge from many different rul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ight Kinds of “Fun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s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ntas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rr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llow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2895480" y="4229280"/>
            <a:ext cx="5105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 example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rmulating an “Aesthetic Model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ach aesthetic go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formal defin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t criteria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t modes of fail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es as an “aesthetic compas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are often reus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al: Competi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tion: A game is competitive if players are emotionally invested in defeating each o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yers are adversar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yers want to w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u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layer feels that he can’t w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layer can’t measure his progre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2" descr="swords"/>
          <p:cNvPicPr/>
          <p:nvPr/>
        </p:nvPicPr>
        <p:blipFill>
          <a:blip r:embed="rId1"/>
          <a:stretch/>
        </p:blipFill>
        <p:spPr>
          <a:xfrm>
            <a:off x="6019920" y="2629080"/>
            <a:ext cx="1736640" cy="89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oal: Pirate Fantas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tion: A pirate fantasy conforms to the genre conventions of pirate movies, and permits the player to engage in certain kinds of anti-social pirate behavio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960" indent="-16452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960" indent="-16452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572000" y="2514600"/>
            <a:ext cx="388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7391520" y="171360"/>
            <a:ext cx="99036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4" name="Picture 10" descr="jollyroger"/>
          <p:cNvPicPr/>
          <p:nvPr/>
        </p:nvPicPr>
        <p:blipFill>
          <a:blip r:embed="rId1"/>
          <a:stretch/>
        </p:blipFill>
        <p:spPr>
          <a:xfrm>
            <a:off x="6699240" y="-6480"/>
            <a:ext cx="229860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7391520" y="171360"/>
            <a:ext cx="99036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oal: Pirate Fantas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tion: A pirate fantasy conforms to the genre conventions of pirate movies, and permits the player to engage in certain kinds of anti-social pirate behavio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ower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e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che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y upon We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960" indent="-16452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960" indent="-16452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4572000" y="2514600"/>
            <a:ext cx="388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0" descr="jollyroger"/>
          <p:cNvPicPr/>
          <p:nvPr/>
        </p:nvPicPr>
        <p:blipFill>
          <a:blip r:embed="rId1"/>
          <a:stretch/>
        </p:blipFill>
        <p:spPr>
          <a:xfrm>
            <a:off x="6699240" y="-6480"/>
            <a:ext cx="2298600" cy="12495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4724280" y="2914560"/>
            <a:ext cx="41911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Failur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tone Sans ITC TT"/>
                <a:ea typeface="ヒラギノ角ゴ Pro W3"/>
              </a:rPr>
              <a:t>Vulnerabi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tone Sans ITC TT"/>
                <a:ea typeface="ヒラギノ角ゴ Pro W3"/>
              </a:rPr>
              <a:t>Compas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tone Sans ITC TT"/>
                <a:ea typeface="ヒラギノ角ゴ Pro W3"/>
              </a:rPr>
              <a:t>Generos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1219320" y="2629080"/>
          <a:ext cx="6400800" cy="21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29080"/>
                    <a:ext cx="6400800" cy="21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al: Dra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ition: A game is dramatic if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s central conflict creates dramatic tens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ramatic tension builds towards a climax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5" descr="masks"/>
          <p:cNvPicPr/>
          <p:nvPr/>
        </p:nvPicPr>
        <p:blipFill>
          <a:blip r:embed="rId3"/>
          <a:stretch/>
        </p:blipFill>
        <p:spPr>
          <a:xfrm>
            <a:off x="6781680" y="343080"/>
            <a:ext cx="14479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bout The Workshop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ed in 20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nds-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ed on it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nded in a formal approach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nded to be open-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al: Dra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160" indent="-208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nse of uncertain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160" indent="-208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nse of inevit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160" indent="-208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nsion increases towards a clima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u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160" indent="-208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flict’s outcome is obvious (no uncertain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160" indent="-208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sense of forward progress (no inevitabili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160" indent="-208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yer doesn’t care how the conflict resolv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5" descr="masks"/>
          <p:cNvPicPr/>
          <p:nvPr/>
        </p:nvPicPr>
        <p:blipFill>
          <a:blip r:embed="rId1"/>
          <a:stretch/>
        </p:blipFill>
        <p:spPr>
          <a:xfrm>
            <a:off x="6781680" y="343080"/>
            <a:ext cx="14479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esthetic Models are an Important Too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’s hard to solve problems we can’t describ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pecially in a large group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Point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some sense, it isn’t about thi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914400" y="2000160"/>
            <a:ext cx="2171880" cy="1543320"/>
          </a:xfrm>
          <a:prstGeom prst="rect">
            <a:avLst/>
          </a:prstGeom>
          <a:solidFill>
            <a:srgbClr val="33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Mechan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295800" y="2000160"/>
            <a:ext cx="2171520" cy="154332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Dynam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5676840" y="2000160"/>
            <a:ext cx="2171880" cy="15433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Aesthet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Point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’s about thi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58" name="AutoShape 5"/>
          <p:cNvCxnSpPr/>
          <p:nvPr/>
        </p:nvCxnSpPr>
        <p:spPr>
          <a:xfrm>
            <a:off x="3098520" y="2771280"/>
            <a:ext cx="1846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</p:cxnSp>
      <p:cxnSp>
        <p:nvCxnSpPr>
          <p:cNvPr id="359" name="AutoShape 6"/>
          <p:cNvCxnSpPr/>
          <p:nvPr/>
        </p:nvCxnSpPr>
        <p:spPr>
          <a:xfrm>
            <a:off x="5479920" y="2771280"/>
            <a:ext cx="18504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</p:cxnSp>
      <p:sp>
        <p:nvSpPr>
          <p:cNvPr id="360" name="Rectangle 10"/>
          <p:cNvSpPr/>
          <p:nvPr/>
        </p:nvSpPr>
        <p:spPr>
          <a:xfrm>
            <a:off x="914400" y="2000160"/>
            <a:ext cx="2171880" cy="1543320"/>
          </a:xfrm>
          <a:prstGeom prst="rect">
            <a:avLst/>
          </a:prstGeom>
          <a:solidFill>
            <a:srgbClr val="33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3295800" y="2000160"/>
            <a:ext cx="2171520" cy="154332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5676840" y="2000160"/>
            <a:ext cx="2171880" cy="15433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Point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where game design happe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65" name="AutoShape 4"/>
          <p:cNvCxnSpPr/>
          <p:nvPr/>
        </p:nvCxnSpPr>
        <p:spPr>
          <a:xfrm>
            <a:off x="3098520" y="2771280"/>
            <a:ext cx="1846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</p:cxnSp>
      <p:cxnSp>
        <p:nvCxnSpPr>
          <p:cNvPr id="366" name="AutoShape 5"/>
          <p:cNvCxnSpPr/>
          <p:nvPr/>
        </p:nvCxnSpPr>
        <p:spPr>
          <a:xfrm>
            <a:off x="5479920" y="2771280"/>
            <a:ext cx="18504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</p:cxnSp>
      <p:sp>
        <p:nvSpPr>
          <p:cNvPr id="367" name="Rectangle 6"/>
          <p:cNvSpPr/>
          <p:nvPr/>
        </p:nvSpPr>
        <p:spPr>
          <a:xfrm>
            <a:off x="914400" y="2000160"/>
            <a:ext cx="2171880" cy="1543320"/>
          </a:xfrm>
          <a:prstGeom prst="rect">
            <a:avLst/>
          </a:prstGeom>
          <a:solidFill>
            <a:srgbClr val="33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295800" y="2000160"/>
            <a:ext cx="2171520" cy="154332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5676840" y="2000160"/>
            <a:ext cx="2171880" cy="15433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It’s NOT about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get a job as a game desig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write a design doc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re game ideas “come from”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get your game fu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use a level edi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 Other Words..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’s not about the Busines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Getting a job, pitching a game, getting fund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’s not about the Profession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Writing documents, tracking bugs, using too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’s about the Craf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Making games that are fu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7" descr="pirates"/>
          <p:cNvPicPr/>
          <p:nvPr/>
        </p:nvPicPr>
        <p:blipFill>
          <a:blip r:embed="rId1"/>
          <a:stretch/>
        </p:blipFill>
        <p:spPr>
          <a:xfrm rot="565800">
            <a:off x="6008760" y="2869920"/>
            <a:ext cx="2133360" cy="728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dice"/>
          <p:cNvPicPr/>
          <p:nvPr/>
        </p:nvPicPr>
        <p:blipFill>
          <a:blip r:embed="rId2"/>
          <a:stretch/>
        </p:blipFill>
        <p:spPr>
          <a:xfrm>
            <a:off x="4800600" y="2343240"/>
            <a:ext cx="1143000" cy="763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knight"/>
          <p:cNvPicPr/>
          <p:nvPr/>
        </p:nvPicPr>
        <p:blipFill>
          <a:blip r:embed="rId3"/>
          <a:stretch/>
        </p:blipFill>
        <p:spPr>
          <a:xfrm rot="20999400">
            <a:off x="6400800" y="1371600"/>
            <a:ext cx="689040" cy="9144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You’ll be Do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y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alyz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iqu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ify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in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chedule Over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am-6pm both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unch from 12:15-1:4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ffee breaks at 11am &amp; 4p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-3 hour design exerci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3812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Facul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657080"/>
            <a:ext cx="40384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rew Fi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The Pokémon Company Internationa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nathan Ham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Crystal Dynamics/Eido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eb Have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Goog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t Hoc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LucasAr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bin Hunic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thatgamecompan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Content Placeholder 14"/>
          <p:cNvSpPr/>
          <p:nvPr/>
        </p:nvSpPr>
        <p:spPr>
          <a:xfrm>
            <a:off x="4800600" y="1200240"/>
            <a:ext cx="4038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Frank Lant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Area/Code / Zynga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Marc LeBlan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lectrified Games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Andrew Lek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lectrified Games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Steve Libran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A/Maxis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Art M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A Bit Luck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Tim Stellma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4mm Games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 Few Ground Rul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ease stay for both day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vE, not Pv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ve the “meta-discussion” for the very en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urn the laptop of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ast but not least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22:56:43Z</dcterms:created>
  <dc:creator>Jamil Moledina</dc:creator>
  <dc:description/>
  <dc:language>en-US</dc:language>
  <cp:lastModifiedBy>MAHK</cp:lastModifiedBy>
  <cp:lastPrinted>1904-01-01T00:00:00Z</cp:lastPrinted>
  <dcterms:modified xsi:type="dcterms:W3CDTF">2011-02-26T22:10:37Z</dcterms:modified>
  <cp:revision>81</cp:revision>
  <dc:subject/>
  <dc:title>GDC 2005</dc:title>
</cp:coreProperties>
</file>