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F5AF-A051-4349-AACD-7A6AF6490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have been noticeably changed from last year.   The changes are mostly to accomodate the format and to homogenize the style a little bi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 aesthetic qualities from the breakdown are </a:t>
            </a:r>
            <a:r>
              <a:rPr b="0" i="1" lang="en-US" sz="1200" spc="-1" strike="noStrike">
                <a:solidFill>
                  <a:srgbClr val="000000"/>
                </a:solidFill>
                <a:latin typeface="Times New Roman"/>
              </a:rPr>
              <a:t>goals.  </a:t>
            </a:r>
            <a:r>
              <a:rPr b="0" lang="en-US" sz="1200" spc="-1" strike="noStrike">
                <a:solidFill>
                  <a:srgbClr val="000000"/>
                </a:solidFill>
                <a:latin typeface="Times New Roman"/>
              </a:rPr>
              <a:t>Conveying their subject matter is also a goal.  Maybe they should come up with a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encourage people to limit their ambition; don’t just rewrite the rules from scratch.  Justify your changes in terms of the goal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is the last slide for part 1.   Because of the way the lunch break works,  part one is shorter this tim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 is two hours.  Feel  free to give them a whole hour of design time, followed by half an hour of playte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cit results from each group.  Discuss.  Give each group 3-4 minutes.  About 20 minutes total.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ermi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discussion as time permits.  Try to tie it back to digital ga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summary.  The real rules are on the handou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summary.  The real rules are on the hand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y for about half an ho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ut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people a few minutes to discuss this and choose before moving on to the rest of the exercies.  Make sure people don’t paint themselves into too much of a corner by choosing a really weird subjec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roken up into three slides for effect only.  Just burn right through the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78F31-78E8-4AA1-80DA-2E8AD1878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78705-7E87-42A7-88BC-585C053B6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E8019-E8FE-49BB-97EE-50BFF3D08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58B83-4EAC-4826-B890-5CD971746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12924-E6B7-4281-A99A-84E65BEDC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A171A-E8DF-4ABD-9DB3-2C671AA2C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3F28B-0A2C-451A-9761-8A3442C6F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F6AA7-5EF7-46BA-8168-68EC530EF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0A9F1-2B75-4415-AF0D-CE3052FB9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11197-C8EE-429C-B5BA-A589D83C9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86334-354E-480E-ABBB-D8C6E56B9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33F00-9E20-4D09-B0F3-651321E6A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FC05-636B-4743-8D9B-B03F3BAD45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Times New Roman"/>
              </a:rPr>
              <a:t>SiSSYFiGHT 2K2</a:t>
            </a:r>
            <a:endParaRPr b="0" lang="en-US" sz="6000" spc="-1" strike="noStrike">
              <a:solidFill>
                <a:srgbClr val="ffff00"/>
              </a:solidFill>
              <a:latin typeface="Times New Roman"/>
            </a:endParaRPr>
          </a:p>
        </p:txBody>
      </p:sp>
      <p:sp>
        <p:nvSpPr>
          <p:cNvPr id="49" name=""/>
          <p:cNvSpPr/>
          <p:nvPr/>
        </p:nvSpPr>
        <p:spPr>
          <a:xfrm>
            <a:off x="2973600" y="5562720"/>
            <a:ext cx="3196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me Design Worksho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DC 200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66" name="PlaceHolder 2"/>
          <p:cNvSpPr>
            <a:spLocks noGrp="1"/>
          </p:cNvSpPr>
          <p:nvPr>
            <p:ph/>
          </p:nvPr>
        </p:nvSpPr>
        <p:spPr>
          <a:xfrm>
            <a:off x="6854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fictional genre and/or setting that might fit this gam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game to your chosen subject matte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in mind the aesthetic qualities we identified in the breakdow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the </a:t>
            </a:r>
            <a:r>
              <a:rPr b="0" i="1" lang="en-US" sz="3200" spc="-1" strike="noStrike">
                <a:solidFill>
                  <a:srgbClr val="ffffff"/>
                </a:solidFill>
                <a:latin typeface="Times New Roman"/>
              </a:rPr>
              <a:t>rules </a:t>
            </a:r>
            <a:r>
              <a:rPr b="0" lang="en-US" sz="3200" spc="-1" strike="noStrike">
                <a:solidFill>
                  <a:srgbClr val="ffffff"/>
                </a:solidFill>
                <a:latin typeface="Times New Roman"/>
              </a:rPr>
              <a:t>of the game be changed to best support your fictio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599840"/>
            <a:ext cx="7772400" cy="3809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e will reconvene after lunc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gain, feel free to take supplies with you, but PLEASE return th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lcome Back!</a:t>
            </a:r>
            <a:endParaRPr b="0" lang="en-US" sz="4400" spc="-1" strike="noStrike">
              <a:solidFill>
                <a:srgbClr val="ffff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ish your desig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some time to playtes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ime permits, share your designs with another group.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compare solutions.  What different approaches did we tak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ight your designs have to change if you were to implement them to digital medi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y Final Observation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view</a:t>
            </a:r>
            <a:endParaRPr b="0" lang="en-US" sz="4400" spc="-1" strike="noStrike">
              <a:solidFill>
                <a:srgbClr val="ffff00"/>
              </a:solidFill>
              <a:latin typeface="Times New Roman"/>
            </a:endParaRPr>
          </a:p>
        </p:txBody>
      </p:sp>
      <p:sp>
        <p:nvSpPr>
          <p:cNvPr id="51"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iSSYFiGHT simulates a schoolyard fight between little girls. Each girls begins with 10 Self-Esteem chips the and goal of the game is to reduce your opponents self-esteem to zero.  When there are only one or two players left with any self-esteem, they win the g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tup</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player starts with: </a:t>
            </a:r>
            <a:endParaRPr b="0" lang="en-US" sz="32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Three “Action” cards </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Six “Target” cards </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Ten chips. </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yone should pick one of the six color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les</a:t>
            </a:r>
            <a:endParaRPr b="0" lang="en-US" sz="44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Round:</a:t>
            </a:r>
            <a:endParaRPr b="0" lang="en-US" sz="32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one picks an “Action” and a “Target” in secret.</a:t>
            </a:r>
            <a:endParaRPr b="0" lang="en-US" sz="28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eal cards simultaneously, then resolve actions. </a:t>
            </a:r>
            <a:endParaRPr b="0" lang="en-US" sz="28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communication must be public. </a:t>
            </a:r>
            <a:endParaRPr b="0" lang="en-US" sz="28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run out of chips, you’re out.</a:t>
            </a:r>
            <a:endParaRPr b="0" lang="en-US" sz="28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one or two people are left, they wi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servation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esthetic Breakdown</a:t>
            </a:r>
            <a:endParaRPr b="0" lang="en-US" sz="4400" spc="-1" strike="noStrike">
              <a:solidFill>
                <a:srgbClr val="ffff00"/>
              </a:solidFill>
              <a:latin typeface="Times New Roman"/>
            </a:endParaRPr>
          </a:p>
        </p:txBody>
      </p:sp>
      <p:sp>
        <p:nvSpPr>
          <p:cNvPr id="5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reak down the fun; express the game’s aesthetic virtues in terms of goals and model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60" name="PlaceHolder 2"/>
          <p:cNvSpPr>
            <a:spLocks noGrp="1"/>
          </p:cNvSpPr>
          <p:nvPr>
            <p:ph/>
          </p:nvPr>
        </p:nvSpPr>
        <p:spPr>
          <a:xfrm>
            <a:off x="6854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fictional genre and/or setting that might fit this gam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62" name="PlaceHolder 2"/>
          <p:cNvSpPr>
            <a:spLocks noGrp="1"/>
          </p:cNvSpPr>
          <p:nvPr>
            <p:ph/>
          </p:nvPr>
        </p:nvSpPr>
        <p:spPr>
          <a:xfrm>
            <a:off x="6854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fictional genre and/or setting that might fit this gam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game to your chosen subject matter.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64" name="PlaceHolder 2"/>
          <p:cNvSpPr>
            <a:spLocks noGrp="1"/>
          </p:cNvSpPr>
          <p:nvPr>
            <p:ph/>
          </p:nvPr>
        </p:nvSpPr>
        <p:spPr>
          <a:xfrm>
            <a:off x="6854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fictional genre and/or setting that might fit this gam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game to your chosen subject matte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in mind the aesthetic qualities we identified in the breakdow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06:20:57Z</dcterms:created>
  <dc:creator>mleblanc</dc:creator>
  <dc:description/>
  <dc:language>en-US</dc:language>
  <cp:lastModifiedBy>Marc LeBlanc</cp:lastModifiedBy>
  <dcterms:modified xsi:type="dcterms:W3CDTF">2002-03-05T09:49:58Z</dcterms:modified>
  <cp:revision>55</cp:revision>
  <dc:subject/>
  <dc:title>Ten Point Five</dc:title>
</cp:coreProperties>
</file>