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4FF1-D3AA-4F5B-8900-6518CCC94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where they sleep in the bed they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roken up into multiple slides for effect only.  Attendees shouldn’t feel required to tackle the parts of this problem in the prescribed order; if they want to work on the 4-player problem before the 3-player problem, they should feel free to.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is the last slide for day 1.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ly obviously, this is the first slide for day 2.  You may need to manage this process a little.   Spend about half an hour o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cit results from each group.  Discuss.  Give each group 3-4 minutes.  About 20 minutes total.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pretty much impossible to solve this problem without increasing the size of the “state space.”  The point here is that having more state space helps the </a:t>
            </a:r>
            <a:r>
              <a:rPr b="0" i="1" lang="en-US" sz="1200" spc="-1" strike="noStrike">
                <a:solidFill>
                  <a:srgbClr val="000000"/>
                </a:solidFill>
                <a:latin typeface="Times New Roman"/>
              </a:rPr>
              <a:t>designer </a:t>
            </a:r>
            <a:r>
              <a:rPr b="0" lang="en-US" sz="1200" spc="-1" strike="noStrike">
                <a:solidFill>
                  <a:srgbClr val="000000"/>
                </a:solidFill>
                <a:latin typeface="Times New Roman"/>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pend more than 5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rt of an obligatory “tie it back to digital media” question.  If it’s not bearing any fruit, move 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ie-back to digital media.  Move on if no one has any comment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ttendees a good half hour or so to play.  Let everyone get a feel for the gam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discussion as time permits.  Try to tie it back to digital g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u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observe that the game’s mechanics do a good job of conveying its subject matter without much in the way of visual or textual c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welve (theoretically, I don’t know if there’s an actual board state that has 12 moves, but it seems like there ough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on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wo, once you take into account the rotational and translational symmetery of the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t most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usketeer player loses, it must be because he has no choice on his last 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larify, the “choices” is the number of </a:t>
            </a:r>
            <a:r>
              <a:rPr b="0" i="1" lang="en-US" sz="1200" spc="-1" strike="noStrike">
                <a:solidFill>
                  <a:srgbClr val="000000"/>
                </a:solidFill>
                <a:latin typeface="Times New Roman"/>
              </a:rPr>
              <a:t>musketeer</a:t>
            </a:r>
            <a:r>
              <a:rPr b="0" lang="en-US" sz="1200" spc="-1" strike="noStrike">
                <a:solidFill>
                  <a:srgbClr val="000000"/>
                </a:solidFill>
                <a:latin typeface="Times New Roman"/>
              </a:rPr>
              <a:t> choices, just to keep things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tarts at 2, gets bigger, peaks at some point, and then goes back down to around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this curve matches the canonical “dramatic structure” curve, and with good reason:  Dramatic tension requires </a:t>
            </a:r>
            <a:r>
              <a:rPr b="0" i="1" lang="en-US" sz="1200" spc="-1" strike="noStrike">
                <a:solidFill>
                  <a:srgbClr val="000000"/>
                </a:solidFill>
                <a:latin typeface="Times New Roman"/>
              </a:rPr>
              <a:t>uncertainty </a:t>
            </a:r>
            <a:r>
              <a:rPr b="0" lang="en-US" sz="1200" spc="-1" strike="noStrike">
                <a:solidFill>
                  <a:srgbClr val="000000"/>
                </a:solidFill>
                <a:latin typeface="Times New Roman"/>
              </a:rPr>
              <a:t>and more choices permits more uncertainty (you can have choices without uncertainty, but you can’t have uncertainty without cho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EC93C-1BA8-46F5-87AA-9144A05A3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AF486-2BAF-4FE8-97C2-6AEEAF688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F02CC-7D5E-42E3-B836-99E87BA38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D4DCA-6B23-4F8E-9FB6-44467417C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DF626-4630-4E48-B6E4-FBDB172FD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691B8-1950-4217-BFE8-0A6E3AD51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D9A9-8873-4B53-9D1B-5E58FC789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D2C3F-9ACC-4118-ACCA-B1AB0E88C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24AA7-1421-4369-807F-495A50D35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9A51F-19A7-486F-9689-A40641489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A0113-1EFB-477F-81F4-749ABEE11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9214-C7EF-4276-B577-34AD11E81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1AD3-5E24-4355-8ACD-1B369D94C7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ree Musketeers</a:t>
            </a:r>
            <a:endParaRPr b="0" lang="en-US" sz="4400" spc="-1" strike="noStrike">
              <a:solidFill>
                <a:srgbClr val="ffff00"/>
              </a:solidFill>
              <a:latin typeface="Times New Roman"/>
            </a:endParaRPr>
          </a:p>
        </p:txBody>
      </p:sp>
      <p:sp>
        <p:nvSpPr>
          <p:cNvPr id="49" name=""/>
          <p:cNvSpPr/>
          <p:nvPr/>
        </p:nvSpPr>
        <p:spPr>
          <a:xfrm>
            <a:off x="2973600" y="5562720"/>
            <a:ext cx="319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 Worksho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DC 200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3 player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3 pla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4 player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3 pla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4 pla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come up with a single rules set that accommodates 2-4 players?</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85800" y="990720"/>
            <a:ext cx="77724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on’t show up tomorrow without a design that you can playte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If you don’t come up with something this afternoon, then consider it your homework for tonigh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eel free to take supplies with you, but PLEASE return them.  We need th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lcome Back!</a:t>
            </a:r>
            <a:endParaRPr b="0" lang="en-US" sz="4400" spc="-1" strike="noStrike">
              <a:solidFill>
                <a:srgbClr val="ffff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some time to playtest your desig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ime permits, share your designs with another group.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compare solutions.  What different approaches did we tak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any possible board positions does your game hav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it compare to the original g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37"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the problem of adding multiplayer  capability to a single-player digital ga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this exercise simila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it differ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bout converting a multiplayer game into a </a:t>
            </a:r>
            <a:r>
              <a:rPr b="0" i="1" lang="en-US" sz="3200" spc="-1" strike="noStrike">
                <a:solidFill>
                  <a:srgbClr val="ffffff"/>
                </a:solidFill>
                <a:latin typeface="Times New Roman"/>
              </a:rPr>
              <a:t>massively </a:t>
            </a:r>
            <a:r>
              <a:rPr b="0" lang="en-US" sz="3200" spc="-1" strike="noStrike">
                <a:solidFill>
                  <a:srgbClr val="ffffff"/>
                </a:solidFill>
                <a:latin typeface="Times New Roman"/>
              </a:rPr>
              <a:t>multiplayer gam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ree Musketeers were an online game, how might your solutions to the exercise chang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 for Three Musketeers</a:t>
            </a:r>
            <a:endParaRPr b="0" lang="en-US" sz="4400" spc="-1" strike="noStrike">
              <a:solidFill>
                <a:srgbClr val="ffff00"/>
              </a:solidFill>
              <a:latin typeface="Times New Roman"/>
            </a:endParaRPr>
          </a:p>
        </p:txBody>
      </p:sp>
      <p:sp>
        <p:nvSpPr>
          <p:cNvPr id="51" name="PlaceHolder 2"/>
          <p:cNvSpPr>
            <a:spLocks noGrp="1"/>
          </p:cNvSpPr>
          <p:nvPr>
            <p:ph/>
          </p:nvPr>
        </p:nvSpPr>
        <p:spPr>
          <a:xfrm>
            <a:off x="380520" y="1447920"/>
            <a:ext cx="57150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yers take turns moving one of their pieces.  No diagonal mov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keteers move by capturing a nearby enem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nal’s men move to a nearby empty spa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nal wins if the Musketeers are in the same row or colum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keteers win if they cannot move.</a:t>
            </a:r>
            <a:endParaRPr b="0" lang="en-US" sz="2800" spc="-1" strike="noStrike">
              <a:solidFill>
                <a:srgbClr val="ffffff"/>
              </a:solidFill>
              <a:latin typeface="Times New Roman"/>
            </a:endParaRPr>
          </a:p>
        </p:txBody>
      </p:sp>
      <p:grpSp>
        <p:nvGrpSpPr>
          <p:cNvPr id="52" name=""/>
          <p:cNvGrpSpPr/>
          <p:nvPr/>
        </p:nvGrpSpPr>
        <p:grpSpPr>
          <a:xfrm>
            <a:off x="6248520" y="2666880"/>
            <a:ext cx="2280960" cy="2281320"/>
            <a:chOff x="6248520" y="2666880"/>
            <a:chExt cx="2280960" cy="2281320"/>
          </a:xfrm>
        </p:grpSpPr>
        <p:sp>
          <p:nvSpPr>
            <p:cNvPr id="53" name=""/>
            <p:cNvSpPr/>
            <p:nvPr/>
          </p:nvSpPr>
          <p:spPr>
            <a:xfrm>
              <a:off x="624852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670464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6076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761724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807336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4852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670464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716076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761724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807336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624852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70464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16076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61724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807336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624852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70464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16076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1724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807336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24852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670464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16076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61724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807336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21800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7412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813024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6152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305400" y="4548960"/>
              <a:ext cx="342000" cy="34200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21800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7412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813024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76152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630540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18000" y="3636360"/>
              <a:ext cx="342000" cy="34200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7412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813024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76152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30540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21800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7412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13024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76152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30540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21800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7412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130240" y="2723760"/>
              <a:ext cx="342000" cy="34200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676152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30540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3" name=""/>
          <p:cNvSpPr/>
          <p:nvPr/>
        </p:nvSpPr>
        <p:spPr>
          <a:xfrm>
            <a:off x="6400080" y="2057400"/>
            <a:ext cx="19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ing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y Final 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esthetic Breakdown</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reak down the fun; express the game’s aesthetic virtues in terms of goals and model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2.  How many first moves are the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2.  How many first moves are there?</a:t>
            </a:r>
            <a:endParaRPr b="0" lang="en-US" sz="3200" spc="-1" strike="noStrike">
              <a:solidFill>
                <a:srgbClr val="ffffff"/>
              </a:solidFill>
              <a:latin typeface="Times New Roman"/>
            </a:endParaRPr>
          </a:p>
        </p:txBody>
      </p:sp>
      <p:grpSp>
        <p:nvGrpSpPr>
          <p:cNvPr id="113" name=""/>
          <p:cNvGrpSpPr/>
          <p:nvPr/>
        </p:nvGrpSpPr>
        <p:grpSpPr>
          <a:xfrm>
            <a:off x="1905120" y="3886200"/>
            <a:ext cx="2280960" cy="2281320"/>
            <a:chOff x="1905120" y="3886200"/>
            <a:chExt cx="2280960" cy="2281320"/>
          </a:xfrm>
        </p:grpSpPr>
        <p:sp>
          <p:nvSpPr>
            <p:cNvPr id="114" name=""/>
            <p:cNvSpPr/>
            <p:nvPr/>
          </p:nvSpPr>
          <p:spPr>
            <a:xfrm>
              <a:off x="190512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36052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817720" y="388620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27348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373068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90512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36052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817720" y="43419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27348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068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90512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36052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817720" y="4799160"/>
              <a:ext cx="45576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27348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73068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90512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36052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817720" y="52545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27348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73068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90512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36052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817720" y="571176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7348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73068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87496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330720" y="576900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78792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417760" y="576900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962000" y="5769000"/>
              <a:ext cx="34164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87496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330720" y="5311800"/>
              <a:ext cx="34272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78792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417760" y="5311800"/>
              <a:ext cx="3430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962000" y="5311800"/>
              <a:ext cx="34164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874960" y="48560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330720" y="485604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787920" y="48560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417760" y="48560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962000" y="48560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874960" y="4398840"/>
              <a:ext cx="3412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330720" y="4398840"/>
              <a:ext cx="34272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417760" y="4398840"/>
              <a:ext cx="3430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62000" y="4398840"/>
              <a:ext cx="34164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74960" y="39434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330720" y="394344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787920" y="43988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417760" y="39434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62000" y="39434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3" name=""/>
          <p:cNvGrpSpPr/>
          <p:nvPr/>
        </p:nvGrpSpPr>
        <p:grpSpPr>
          <a:xfrm>
            <a:off x="4648320" y="3886200"/>
            <a:ext cx="2280960" cy="2281320"/>
            <a:chOff x="4648320" y="3886200"/>
            <a:chExt cx="2280960" cy="2281320"/>
          </a:xfrm>
        </p:grpSpPr>
        <p:sp>
          <p:nvSpPr>
            <p:cNvPr id="164" name=""/>
            <p:cNvSpPr/>
            <p:nvPr/>
          </p:nvSpPr>
          <p:spPr>
            <a:xfrm>
              <a:off x="464832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10372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560920" y="388620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01668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47388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64832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10372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560920" y="43419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01668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47388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64832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10372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560920" y="4799160"/>
              <a:ext cx="45576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01668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47388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64832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10372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560920" y="52545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01668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47388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64832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10372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560920" y="571176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01668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47388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61816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073920" y="576900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53112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160960" y="576900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705200" y="5769000"/>
              <a:ext cx="34164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61816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073920" y="5311800"/>
              <a:ext cx="34272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653112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160960" y="5311800"/>
              <a:ext cx="3430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705200" y="5311800"/>
              <a:ext cx="34164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073920" y="48560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531120" y="48560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160960" y="48560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4705200" y="48560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618160" y="4398840"/>
              <a:ext cx="3412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073920" y="4398840"/>
              <a:ext cx="34272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531120" y="4398840"/>
              <a:ext cx="3412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160960" y="4398840"/>
              <a:ext cx="3430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705200" y="4398840"/>
              <a:ext cx="34164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618160" y="39434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073920" y="394344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531120" y="39434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160960" y="39434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4705200" y="39434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2.  How many first moves are ther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3.  How many last moves are ther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at does this graph look lik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1371600" y="2895480"/>
            <a:ext cx="0" cy="2819520"/>
          </a:xfrm>
          <a:prstGeom prst="line">
            <a:avLst/>
          </a:prstGeom>
          <a:ln w="936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371600" y="5715000"/>
            <a:ext cx="609588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794040" y="5756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ffffff"/>
              </a:solidFill>
              <a:latin typeface="Times New Roman"/>
            </a:endParaRPr>
          </a:p>
        </p:txBody>
      </p:sp>
      <p:sp>
        <p:nvSpPr>
          <p:cNvPr id="220" name=""/>
          <p:cNvSpPr/>
          <p:nvPr/>
        </p:nvSpPr>
        <p:spPr>
          <a:xfrm rot="16200000">
            <a:off x="560880" y="4068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7T06:53:24Z</dcterms:created>
  <dc:creator>mleblanc</dc:creator>
  <dc:description/>
  <dc:language>en-US</dc:language>
  <cp:lastModifiedBy>Marc LeBlanc</cp:lastModifiedBy>
  <dcterms:modified xsi:type="dcterms:W3CDTF">2002-03-03T09:06:31Z</dcterms:modified>
  <cp:revision>2</cp:revision>
  <dc:subject/>
  <dc:title>Three Musketeers</dc:title>
</cp:coreProperties>
</file>