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401-AFD8-4031-B472-BB743884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0EB-3216-4D5B-8FC7-8EB67C0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E2C-FEF6-403D-8A4F-C73006A6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689-D9D4-4E2E-A6D7-81C307B0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B8D-03C0-4A0A-ABD9-D12F4BFB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509-1F0D-4579-A600-8F8F5DC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71E-8F6D-42BD-ACED-BB2A2B8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DC0-3489-4B60-BA00-CC42501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EE3-8461-4B60-86D2-0049144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0FC-175F-43B5-A8DD-AE83BAB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FC3-C571-4AA5-B18F-85B7231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C2D-4305-408B-B70E-750AFEF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18A-9CB9-4620-AEC3-C51C13013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 this th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mean by 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uning: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ea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tw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dling with knob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w games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3"/>
            <a:endCxn id="78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5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6" idx="3"/>
            <a:endCxn id="79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  <a:endCxn id="87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91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334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“State Machine”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rigorously define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odel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tool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our “game design lense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ing Your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inds of “fun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you want your players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s of entertain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your game prov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ns and Ad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and Tuning Worksh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 “MAHK” LeBl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 on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games serve multiple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egments of an audience have different ta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ing the Form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games accomplish our go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T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a game’s rules shape its “behavio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 “Aesthet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gorous definition of an aesthetic go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s the questi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How do games achieve this goal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s as an “aesthetic compa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s the possible “failure mode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are advers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have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going emotional invest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defeating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feels that he can’t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can’t measure his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workshop high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the facu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Realistic Flight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Models: Our flight dynamic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tch a mathematical formula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pass our “realism checklist,”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resident pilot thinks they 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-intuitive system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central conflict creat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amatic 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matic tension builds toward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3657600"/>
          <a:ext cx="64008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64008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lict’s outcome is obviou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e of forward progres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does not increase towards a cli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Formal Design Too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mula or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a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di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havior of a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Random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eedback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7400" y="61722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166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167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in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 our go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out our game’s fla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our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Too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our game’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kind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possible re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Models and Tool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e 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exist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ields: Literature, Psychology, Engineer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own exper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Goo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and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our models and tools to b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(i.e. well-defi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widely applicabl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n (i.e. known to wor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any given game, we expect to use several different abstractions, not one big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, we re-evalu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models and to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assum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times we need to revise our own thinking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I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s second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ands-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ppro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be open-e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your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ze and Revise with the help of Models and Too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ing Forward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hope the future brings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ch aesthetic vocabul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atalog of formal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of well-known techn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bstract Design Tool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ime for Coffee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, “Breakin’ Down the 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ist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and express its merits in terms of Aesthetic Goals and Mode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ing (Twitchy, Tactic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ochistic (“Tidiness”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For each goal in our list, formulate a model.  Also think about failure mod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game to analyze.  Here are some sugges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00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of Emp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3200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y Haw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o 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ppa the Ra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L 2K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Don’t Know J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For each goal in our list, formulate a model.  Also think about failure mod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n’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“indust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design “professi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the early stages of game desig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ne-way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’ll be Do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Ground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attend the whole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pecific.  Get down to the detai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e, Share, and Encour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“meta-discussion” for the very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shop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Exer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ms: Regency I, Crystal, Ga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ing the Facul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Lea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tin Gros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an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l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 Ferm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in Hunic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Le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 Stellm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Zimme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Marc "MAHK" LeBlanc</cp:lastModifiedBy>
  <dcterms:modified xsi:type="dcterms:W3CDTF">2002-03-19T16:19:44Z</dcterms:modified>
  <cp:revision>15</cp:revision>
  <dc:subject/>
  <dc:title>Game Design and Tuning Workshop</dc:title>
</cp:coreProperties>
</file>