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45A-8A07-479C-9D38-B44EA617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larify, the “choices” is the number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uskete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oices, just to keep things sim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starts at 2, gets bigger, peaks at some point, and then goes back down to around 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hat this curve matches the canonical “dramatic structure” curve, and with good reason:  Dramatic tension requir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certaint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ore choices permits more uncertainty (you can have choices without uncertainty, but you can’t have uncertainty without choices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612-1C9C-4FD9-85A6-4D767FA7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91-02C8-4983-92E6-154627C4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8EA-F96F-4A94-8291-B3B6622E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7CC-7FDF-4A1A-B2BE-5F6EF48D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8C4-52A3-46FF-8E5B-B5C616A8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78-2165-4CC1-A391-1BFA5FB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4EE-929B-44A9-8B29-1DB9C59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BB1-F603-439F-A156-BB4EE034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097-94FC-4B10-BBA7-DE3F730B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02-3CC4-4299-BF8E-F2E4BAF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3CA-2F67-40BF-8A4C-6DE7A14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CCF-D97F-4805-8665-0499130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E15-67F3-4558-80CA-7C9C1F885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DA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440" y="2971800"/>
            <a:ext cx="6095880" cy="1295280"/>
            <a:chOff x="1522440" y="2971800"/>
            <a:chExt cx="6095880" cy="1295280"/>
          </a:xfrm>
        </p:grpSpPr>
        <p:sp>
          <p:nvSpPr>
            <p:cNvPr id="50" name=""/>
            <p:cNvSpPr/>
            <p:nvPr/>
          </p:nvSpPr>
          <p:spPr>
            <a:xfrm>
              <a:off x="15224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chan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58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esthet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212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ynam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0" idx="3"/>
              <a:endCxn id="52" idx="1"/>
            </p:cNvCxnSpPr>
            <p:nvPr/>
          </p:nvCxnSpPr>
          <p:spPr>
            <a:xfrm>
              <a:off x="3274920" y="3619440"/>
              <a:ext cx="457560" cy="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2" idx="3"/>
              <a:endCxn id="51" idx="1"/>
            </p:cNvCxnSpPr>
            <p:nvPr/>
          </p:nvCxnSpPr>
          <p:spPr>
            <a:xfrm>
              <a:off x="5484600" y="3619440"/>
              <a:ext cx="381600" cy="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Common The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some themes we examin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Dynamics and Fant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ame dynamics hav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an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our game’s core fanta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meaning may or may not be compat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rder to remain faithful to our subject matter, dynamics and fantasy must be in alig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urphytitle" descr=""/>
          <p:cNvPicPr/>
          <p:nvPr/>
        </p:nvPicPr>
        <p:blipFill>
          <a:blip r:embed="rId1"/>
          <a:stretch/>
        </p:blipFill>
        <p:spPr>
          <a:xfrm>
            <a:off x="320184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0211" descr=""/>
          <p:cNvPicPr/>
          <p:nvPr/>
        </p:nvPicPr>
        <p:blipFill>
          <a:blip r:embed="rId2"/>
          <a:stretch/>
        </p:blipFill>
        <p:spPr>
          <a:xfrm>
            <a:off x="622440" y="1447920"/>
            <a:ext cx="37735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0303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375768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172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© Steve Jackson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20640" y="61722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sjgam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“Possibilty Space” and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8954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571500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4040" y="5756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560880" y="40687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971800"/>
            <a:ext cx="5639040" cy="2743200"/>
          </a:xfrm>
          <a:custGeom>
            <a:avLst/>
            <a:gdLst/>
            <a:ahLst/>
            <a:rect l="l" t="t" r="r" b="b"/>
            <a:pathLst>
              <a:path w="3552" h="1728">
                <a:moveTo>
                  <a:pt x="0" y="1728"/>
                </a:moveTo>
                <a:cubicBezTo>
                  <a:pt x="620" y="1104"/>
                  <a:pt x="1240" y="480"/>
                  <a:pt x="1728" y="240"/>
                </a:cubicBezTo>
                <a:cubicBezTo>
                  <a:pt x="2216" y="0"/>
                  <a:pt x="2624" y="40"/>
                  <a:pt x="2928" y="288"/>
                </a:cubicBezTo>
                <a:cubicBezTo>
                  <a:pt x="3232" y="536"/>
                  <a:pt x="3392" y="1132"/>
                  <a:pt x="3552" y="17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State Space and Design Flexi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e sp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a game is the set of possible states the system can b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r the state space, the easier it is to make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we modify our design, we can expect the state space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ability is a Valuabl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Aesthetic Bread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are not aesthetic laser be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are players, neither are design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professionals, we need to be able to match the player’s values as well as our 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inal Though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intellect is a Bailey bridge built between islands of inspira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 Mike M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7640" y="4572000"/>
            <a:ext cx="416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algorithmancy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hk@world.std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Marc LeBlanc</cp:lastModifiedBy>
  <dcterms:modified xsi:type="dcterms:W3CDTF">2003-03-25T05:12:20Z</dcterms:modified>
  <cp:revision>34</cp:revision>
  <dc:subject/>
  <dc:title>Game Design and Tuning Workshop</dc:title>
</cp:coreProperties>
</file>