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3475-FD41-4F72-A6DB-080C2D694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ut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 aesthetic qualities from the breakdown are </a:t>
            </a:r>
            <a:r>
              <a:rPr b="0" i="1" lang="en-US" sz="1200" spc="-1" strike="noStrike">
                <a:solidFill>
                  <a:srgbClr val="000000"/>
                </a:solidFill>
                <a:latin typeface="Times New Roman"/>
              </a:rPr>
              <a:t>goals.  </a:t>
            </a:r>
            <a:r>
              <a:rPr b="0" lang="en-US" sz="1200" spc="-1" strike="noStrike">
                <a:solidFill>
                  <a:srgbClr val="000000"/>
                </a:solidFill>
                <a:latin typeface="Times New Roman"/>
              </a:rPr>
              <a:t>Conveying their subject matter is also a goal.  Maybe they should come up with a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ncourage people to limit their ambition; don’t just rewrite the rules from scratch.  Justify your changes in terms of the goal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is the last slide for part 1.   Because of the way the lunch break works,  part one is shorter this tim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 is two hours.  Feel  free to give them a whole hour of design time, followed by half an hour of playtes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cit results from each group.  Discuss.  Give each group 3-4 minutes.  About 20 minutes total.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ermi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discussion as time permits.  Try to tie it back to digital g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summary.  The real rules are on the handou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summary.  The real rules are on the hand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 for about half an h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ut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people a few minutes to discuss this and choose before moving on to the rest of the exercies.  Make sure people don’t paint themselves into too much of a corner by choosing a really weird subjec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roken up into three slides for effect only.  Just burn right through the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64092-7F1F-498F-83FD-92BF1FC80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A9E03-545F-4475-9935-C225B83E6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067A2-FE5D-4332-B5DD-4445C81FB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21E7F-AE05-4BAF-9E66-E444712E4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5D41C-0D7C-4452-843F-5AB7F7C2D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B0EDE-0130-4837-8D10-2E397F68E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9C6E7-7652-4D9B-8426-7CA4D510A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CFF3F-DAB4-4021-9974-6E58762D7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F4C82-8572-48B4-8D36-6452B43CD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CB3A6-1759-4CC9-8F00-84D7573C8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62D5-AF3A-49DD-90B7-07DBF30DE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24694-0665-4AF8-84A3-566B0410D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49B0-3CB6-46A0-B554-A92B64EB87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Times New Roman"/>
              </a:rPr>
              <a:t>SiSSYFiGHT 3000</a:t>
            </a:r>
            <a:endParaRPr b="0" lang="en-US" sz="6000" spc="-1" strike="noStrike">
              <a:solidFill>
                <a:srgbClr val="ffff00"/>
              </a:solidFill>
              <a:latin typeface="Times New Roman"/>
            </a:endParaRPr>
          </a:p>
        </p:txBody>
      </p:sp>
      <p:sp>
        <p:nvSpPr>
          <p:cNvPr id="49" name=""/>
          <p:cNvSpPr/>
          <p:nvPr/>
        </p:nvSpPr>
        <p:spPr>
          <a:xfrm>
            <a:off x="2973600" y="5562720"/>
            <a:ext cx="319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 Worksho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DC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6"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game to your chosen subject matt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in mind the aesthetic qualities we identified in the breakdow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8"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game to your chosen subject matt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in mind the aesthetic qualities we identified in the breakdow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the </a:t>
            </a:r>
            <a:r>
              <a:rPr b="0" i="1" lang="en-US" sz="3200" spc="-1" strike="noStrike">
                <a:solidFill>
                  <a:srgbClr val="ffffff"/>
                </a:solidFill>
                <a:latin typeface="Times New Roman"/>
              </a:rPr>
              <a:t>rules </a:t>
            </a:r>
            <a:r>
              <a:rPr b="0" lang="en-US" sz="3200" spc="-1" strike="noStrike">
                <a:solidFill>
                  <a:srgbClr val="ffffff"/>
                </a:solidFill>
                <a:latin typeface="Times New Roman"/>
              </a:rPr>
              <a:t>of the game be changed to best support your fictio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599840"/>
            <a:ext cx="7772400" cy="3809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e will reconvene after lunch. (2:0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Feel free to take supplies with you, but PLEASE return th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lcome Back!</a:t>
            </a:r>
            <a:endParaRPr b="0" lang="en-US" sz="4400" spc="-1" strike="noStrike">
              <a:solidFill>
                <a:srgbClr val="ffff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ish your desig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some time to playte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ime permits, share your designs with another group.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compare solutions.  What different approaches did we tak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id the game dynamics support your subject matt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re the game dynamics and the subject matter ever in conflic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id your choice of subject matter influence your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y Final 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ffee!</a:t>
            </a:r>
            <a:endParaRPr b="0" lang="en-US" sz="4400" spc="-1" strike="noStrike">
              <a:solidFill>
                <a:srgbClr val="ffff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break, pick a different classroom to go to.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s are C1, C2 and C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view</a:t>
            </a:r>
            <a:endParaRPr b="0" lang="en-US" sz="4400" spc="-1" strike="noStrike">
              <a:solidFill>
                <a:srgbClr val="ffff00"/>
              </a:solidFill>
              <a:latin typeface="Times New Roman"/>
            </a:endParaRPr>
          </a:p>
        </p:txBody>
      </p:sp>
      <p:sp>
        <p:nvSpPr>
          <p:cNvPr id="51"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iSSYFiGHT simulates a schoolyard fight between little girls. Each girls begins with 10 Self-Esteem chips the and goal of the game is to reduce your opponents self-esteem to zero.  When there are only one or two players left with any self-esteem, they win the g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tup</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player starts with: </a:t>
            </a:r>
            <a:endParaRPr b="0" lang="en-US" sz="32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Three “Action” cards </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Six “Target” cards </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Ten chips. </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yone should pick one of the six color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les</a:t>
            </a:r>
            <a:endParaRPr b="0" lang="en-US" sz="44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Round:</a:t>
            </a:r>
            <a:endParaRPr b="0" lang="en-US" sz="32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one picks an “Action” and a “Target” in secret.</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eal cards simultaneously, then resolve actions. </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communication must be public. </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run out of chips, you’re out.</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one or two people are left, they wi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esthetic Breakdown</a:t>
            </a:r>
            <a:endParaRPr b="0" lang="en-US" sz="4400" spc="-1" strike="noStrike">
              <a:solidFill>
                <a:srgbClr val="ffff00"/>
              </a:solidFill>
              <a:latin typeface="Times New Roman"/>
            </a:endParaRPr>
          </a:p>
        </p:txBody>
      </p:sp>
      <p:sp>
        <p:nvSpPr>
          <p:cNvPr id="5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at are the aesthetics of SiSSYFi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ther words, </a:t>
            </a:r>
            <a:r>
              <a:rPr b="0" i="1" lang="en-US" sz="3200" spc="-1" strike="noStrike">
                <a:solidFill>
                  <a:srgbClr val="ffffff"/>
                </a:solidFill>
                <a:latin typeface="Times New Roman"/>
              </a:rPr>
              <a:t>what kinds of “fun” does it deliv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we come up with aesthetic model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other settings, genres or subjects might fit this g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2"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4"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game to your chosen subject matter.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06:20:57Z</dcterms:created>
  <dc:creator>mleblanc</dc:creator>
  <dc:description/>
  <dc:language>en-US</dc:language>
  <cp:lastModifiedBy> Marc LeBlanc</cp:lastModifiedBy>
  <dcterms:modified xsi:type="dcterms:W3CDTF">2003-03-04T20:32:51Z</dcterms:modified>
  <cp:revision>59</cp:revision>
  <dc:subject/>
  <dc:title>Ten Point Five</dc:title>
</cp:coreProperties>
</file>