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139-9008-4FD9-A69A-E6D90A41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2A0-7D61-4278-BE44-2878FB35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F7C-E29C-448C-8E78-5D45248E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94B-9FBA-408F-B598-EE507503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4A0-DF51-46E5-AD2B-BDF3D575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213-6574-4E39-BACC-07F2357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2A0-48DD-4549-9706-C5F7F9BA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55D-A8B9-47AD-A7B9-92DB169C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260-DB2B-4180-B0F2-BD94E97D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CC2-F297-44D7-A0DF-81EC65A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A53-CD58-400D-97F5-D713E9C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341-2892-4712-B6BE-DA2AF0B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3FD0-78BB-4241-A17F-02D81F009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ysis of Digital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3600" y="5562720"/>
            <a:ext cx="31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 Wor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sthetic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ke a digital game and pick it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sthetic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ke a digital game and pick it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its aesthetic strengths, i.e. the “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sthetic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ke a digital game and pick it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its aesthetic strengths, i.e. the “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 about the dynamics that create thes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sthetic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ke a digital game and pick it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its aesthetic strengths, i.e. the “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 about the dynamics that create thes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 about the mechanics these dynamics emerge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ines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1: Generate a list of Aesthetic Goals that describe the “fun” of this ga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culate a good, formal definition for eac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2: For each of these aesthetic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2: For each of these aesthetic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ame dynamics create this eff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2: For each of these aesthetic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ame dynamics create this eff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echanics make up each of these game dynam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ysis of Digital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ke a digital game and pick it apart, figure out how it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2: For each of these aesthetic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ame dynamics create this eff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echanics make up each of these game dynam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.e., why does the game feel this w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 into groups, and take a few minutes to pick a game to analyz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4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some sugges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2004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ce Dance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of Emp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2004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y Haw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o 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k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ppa the Ra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ken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1: Generate a list of Aesthetics that describe the “fun” of your chosen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good, formal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re particular aesthetic flaws in the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2: For 1 or 2 of these aesthetic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ame dynamics create this eff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echanics make up each of these game dynam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 2: For each of these aesthetic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ame dynamics create this eff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echanics make up each of these game dynam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.e., why does the game feel this w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as thinking about digital games different? Ha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ffee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DA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19320" y="2362320"/>
            <a:ext cx="6629040" cy="1295280"/>
            <a:chOff x="1219320" y="2362320"/>
            <a:chExt cx="6629040" cy="1295280"/>
          </a:xfrm>
        </p:grpSpPr>
        <p:sp>
          <p:nvSpPr>
            <p:cNvPr id="47" name=""/>
            <p:cNvSpPr/>
            <p:nvPr/>
          </p:nvSpPr>
          <p:spPr>
            <a:xfrm>
              <a:off x="12193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chan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425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esthet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223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ynam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50" name=""/>
          <p:cNvCxnSpPr>
            <a:stCxn id="47" idx="3"/>
            <a:endCxn id="49" idx="1"/>
          </p:cNvCxnSpPr>
          <p:nvPr/>
        </p:nvCxnSpPr>
        <p:spPr>
          <a:xfrm>
            <a:off x="3125880" y="3009600"/>
            <a:ext cx="497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9" idx="3"/>
            <a:endCxn id="48" idx="1"/>
          </p:cNvCxnSpPr>
          <p:nvPr/>
        </p:nvCxnSpPr>
        <p:spPr>
          <a:xfrm>
            <a:off x="5527440" y="300960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: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rable emotional respon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voked by the game dynam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different kinds of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Games Have Different Aesth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ra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peration, Expression,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, Sensation, Competition,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al Fant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tasy, Narrative, Expression, Discovery, Challenge,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game pursues multiple aesthe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gain, there is no Game Unified The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: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rable emotional respon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voked by the game dynam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different kinds of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: The run-time behavior of the game-as-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: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rable emotional respon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voked by the game dynam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different kinds of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: The run-time behavior of the game-as-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s: The rules and abstractions that formally specify the game-as-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ap: The MDA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590920"/>
            <a:ext cx="486000" cy="519120"/>
          </a:xfrm>
          <a:prstGeom prst="upArrow">
            <a:avLst>
              <a:gd name="adj1" fmla="val 50000"/>
              <a:gd name="adj2" fmla="val 2670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809880"/>
            <a:ext cx="486000" cy="519120"/>
          </a:xfrm>
          <a:prstGeom prst="upArrow">
            <a:avLst>
              <a:gd name="adj1" fmla="val 50000"/>
              <a:gd name="adj2" fmla="val 2670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Austin Grossman</cp:lastModifiedBy>
  <dcterms:modified xsi:type="dcterms:W3CDTF">2003-03-05T21:50:50Z</dcterms:modified>
  <cp:revision>88</cp:revision>
  <dc:subject/>
  <dc:title>Game Design and Tuning Workshop</dc:title>
</cp:coreProperties>
</file>