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9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1945-572E-4769-BC1F-039AAC757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E76D-1C85-41DD-A193-82787AF72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101F-966A-44E1-9D8F-BE31E3644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8F34-26A8-4417-AE59-D146B582B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D6C5-361E-4053-970C-9976F53DF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D1D1-0143-4C4F-8720-E98F9DC48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A160-1339-46BC-9BD7-6E8867347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25A0-572B-4CF5-BD3B-3EE1E26A7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E202-41CA-4979-A173-182DA5584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3B06-D867-4FA6-9762-F27B31133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F2FD-F362-482A-BCAA-BE2CB2A3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FA31-1989-47BE-87EA-E7CFB2F2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A8656-5817-46F5-9CF6-B29A899340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Is this thing on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troducing the Facul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ysel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b Fermi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ustin Grossm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ank Lant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rew Lek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eve Libran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atie Sal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m Stellm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so Helping Ou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t M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bin Hunick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t II: A Formal Approac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this section, we pres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formal framework for game desig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view of the designer-player relationsh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ame Design “Frameworks”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adigms for organizing our understand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ame Design “Frameworks”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adigms for organizing our understand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Framework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400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gn Patter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ame Design “Frameworks”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adigms for organizing our understand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Framework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400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gn Patter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parate from the proce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r Framewor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ganized around the designer-player relationshi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ounded in a formal approac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Designer-Player Relationshi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206360" y="2362320"/>
            <a:ext cx="51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Webdings"/>
                <a:ea typeface="Webdings"/>
              </a:rPr>
              <a:t>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14040" y="34290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sign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530840" y="2362320"/>
            <a:ext cx="51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Webdings"/>
                <a:ea typeface="Webdings"/>
              </a:rPr>
              <a:t>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391520" y="342900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lay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Designer-Player Relationshi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06360" y="2362320"/>
            <a:ext cx="51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Webdings"/>
                <a:ea typeface="Webdings"/>
              </a:rPr>
              <a:t>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4040" y="34290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sign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530840" y="2362320"/>
            <a:ext cx="51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Webdings"/>
                <a:ea typeface="Webdings"/>
              </a:rPr>
              <a:t>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391520" y="342900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lay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733920" y="2590920"/>
            <a:ext cx="1676160" cy="731880"/>
          </a:xfrm>
          <a:prstGeom prst="rect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Designer-Player Relationshi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06360" y="2362320"/>
            <a:ext cx="51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Webdings"/>
                <a:ea typeface="Webdings"/>
              </a:rPr>
              <a:t>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14040" y="34290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sign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530840" y="2362320"/>
            <a:ext cx="51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Webdings"/>
                <a:ea typeface="Webdings"/>
              </a:rPr>
              <a:t>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391520" y="342900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lay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33920" y="2590920"/>
            <a:ext cx="1676160" cy="731880"/>
          </a:xfrm>
          <a:prstGeom prst="rect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5" idx="3"/>
            <a:endCxn id="89" idx="1"/>
          </p:cNvCxnSpPr>
          <p:nvPr/>
        </p:nvCxnSpPr>
        <p:spPr>
          <a:xfrm>
            <a:off x="2013120" y="2957040"/>
            <a:ext cx="1721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1" name=""/>
          <p:cNvCxnSpPr>
            <a:stCxn id="87" idx="1"/>
            <a:endCxn id="89" idx="3"/>
          </p:cNvCxnSpPr>
          <p:nvPr/>
        </p:nvCxnSpPr>
        <p:spPr>
          <a:xfrm flipH="1">
            <a:off x="5409720" y="2957040"/>
            <a:ext cx="182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2" name=""/>
          <p:cNvSpPr/>
          <p:nvPr/>
        </p:nvSpPr>
        <p:spPr>
          <a:xfrm>
            <a:off x="2286720" y="251460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rea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66560" y="251460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sum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Designer-Player Relationshi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06360" y="2362320"/>
            <a:ext cx="51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Webdings"/>
                <a:ea typeface="Webdings"/>
              </a:rPr>
              <a:t>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040" y="34290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sign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530840" y="2362320"/>
            <a:ext cx="51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Webdings"/>
                <a:ea typeface="Webdings"/>
              </a:rPr>
              <a:t>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391520" y="342900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lay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3920" y="2590920"/>
            <a:ext cx="1676160" cy="731880"/>
          </a:xfrm>
          <a:prstGeom prst="rect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95" idx="3"/>
            <a:endCxn id="99" idx="1"/>
          </p:cNvCxnSpPr>
          <p:nvPr/>
        </p:nvCxnSpPr>
        <p:spPr>
          <a:xfrm>
            <a:off x="2013120" y="2957040"/>
            <a:ext cx="1721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7" idx="1"/>
            <a:endCxn id="99" idx="3"/>
          </p:cNvCxnSpPr>
          <p:nvPr/>
        </p:nvCxnSpPr>
        <p:spPr>
          <a:xfrm flipH="1">
            <a:off x="5409720" y="2957040"/>
            <a:ext cx="182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2286720" y="251460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rea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66560" y="251460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sum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27760" y="3429000"/>
            <a:ext cx="84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o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ame Design and Tuning Worksho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i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71600" y="5486400"/>
            <a:ext cx="6400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c “MAHK” LeBlan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DC 20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Designer-Player Relationshi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06360" y="2362320"/>
            <a:ext cx="51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Webdings"/>
                <a:ea typeface="Webdings"/>
              </a:rPr>
              <a:t>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040" y="34290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sign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530840" y="2362320"/>
            <a:ext cx="51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Webdings"/>
                <a:ea typeface="Webdings"/>
              </a:rPr>
              <a:t>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342900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lay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733920" y="2590920"/>
            <a:ext cx="1676160" cy="731880"/>
          </a:xfrm>
          <a:prstGeom prst="rect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106" idx="3"/>
            <a:endCxn id="110" idx="1"/>
          </p:cNvCxnSpPr>
          <p:nvPr/>
        </p:nvCxnSpPr>
        <p:spPr>
          <a:xfrm>
            <a:off x="2013120" y="2957040"/>
            <a:ext cx="1721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8" idx="1"/>
            <a:endCxn id="110" idx="3"/>
          </p:cNvCxnSpPr>
          <p:nvPr/>
        </p:nvCxnSpPr>
        <p:spPr>
          <a:xfrm flipH="1">
            <a:off x="5409720" y="2957040"/>
            <a:ext cx="182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286720" y="251460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rea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866560" y="251460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sum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60080" y="3429000"/>
            <a:ext cx="97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o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v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Designer-Player Relationshi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06360" y="2362320"/>
            <a:ext cx="51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Webdings"/>
                <a:ea typeface="Webdings"/>
              </a:rPr>
              <a:t>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14040" y="34290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sign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530840" y="2362320"/>
            <a:ext cx="51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Webdings"/>
                <a:ea typeface="Webdings"/>
              </a:rPr>
              <a:t>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342900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lay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90920"/>
            <a:ext cx="1676160" cy="731880"/>
          </a:xfrm>
          <a:prstGeom prst="rect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17" idx="3"/>
            <a:endCxn id="121" idx="1"/>
          </p:cNvCxnSpPr>
          <p:nvPr/>
        </p:nvCxnSpPr>
        <p:spPr>
          <a:xfrm>
            <a:off x="2013120" y="2957040"/>
            <a:ext cx="1721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9" idx="1"/>
            <a:endCxn id="121" idx="3"/>
          </p:cNvCxnSpPr>
          <p:nvPr/>
        </p:nvCxnSpPr>
        <p:spPr>
          <a:xfrm flipH="1">
            <a:off x="5409720" y="2957040"/>
            <a:ext cx="182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2286720" y="251460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rea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866560" y="251460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sum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49560" y="3429000"/>
            <a:ext cx="119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o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v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in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Designer-Player Relationshi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06360" y="2362320"/>
            <a:ext cx="51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Webdings"/>
                <a:ea typeface="Webdings"/>
              </a:rPr>
              <a:t>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14040" y="34290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sign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530840" y="2362320"/>
            <a:ext cx="51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Webdings"/>
                <a:ea typeface="Webdings"/>
              </a:rPr>
              <a:t>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91520" y="342900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lay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733920" y="2590920"/>
            <a:ext cx="1676160" cy="731880"/>
          </a:xfrm>
          <a:prstGeom prst="rect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3" name=""/>
          <p:cNvCxnSpPr>
            <a:stCxn id="128" idx="3"/>
            <a:endCxn id="132" idx="1"/>
          </p:cNvCxnSpPr>
          <p:nvPr/>
        </p:nvCxnSpPr>
        <p:spPr>
          <a:xfrm>
            <a:off x="2013120" y="2957040"/>
            <a:ext cx="1721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130" idx="1"/>
            <a:endCxn id="132" idx="3"/>
          </p:cNvCxnSpPr>
          <p:nvPr/>
        </p:nvCxnSpPr>
        <p:spPr>
          <a:xfrm flipH="1">
            <a:off x="5409720" y="2957040"/>
            <a:ext cx="182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2286720" y="251460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rea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866560" y="251460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sum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49560" y="3429000"/>
            <a:ext cx="1198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o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v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in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Designer-Player Relationshi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360" y="2362320"/>
            <a:ext cx="51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Webdings"/>
                <a:ea typeface="Webdings"/>
              </a:rPr>
              <a:t>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4040" y="34290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sign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30840" y="2362320"/>
            <a:ext cx="51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Webdings"/>
                <a:ea typeface="Webdings"/>
              </a:rPr>
              <a:t>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391520" y="342900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lay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733920" y="2590920"/>
            <a:ext cx="1676160" cy="731880"/>
          </a:xfrm>
          <a:prstGeom prst="rect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4" name=""/>
          <p:cNvCxnSpPr>
            <a:stCxn id="139" idx="3"/>
            <a:endCxn id="143" idx="1"/>
          </p:cNvCxnSpPr>
          <p:nvPr/>
        </p:nvCxnSpPr>
        <p:spPr>
          <a:xfrm>
            <a:off x="2013120" y="2957040"/>
            <a:ext cx="1721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1"/>
            <a:endCxn id="143" idx="3"/>
          </p:cNvCxnSpPr>
          <p:nvPr/>
        </p:nvCxnSpPr>
        <p:spPr>
          <a:xfrm flipH="1">
            <a:off x="5409720" y="2957040"/>
            <a:ext cx="182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46" name=""/>
          <p:cNvSpPr/>
          <p:nvPr/>
        </p:nvSpPr>
        <p:spPr>
          <a:xfrm>
            <a:off x="2286720" y="251460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rea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866560" y="251460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sum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49560" y="3429000"/>
            <a:ext cx="1198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o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v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in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Designer-Player Relationshi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06360" y="2362320"/>
            <a:ext cx="51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Webdings"/>
                <a:ea typeface="Webdings"/>
              </a:rPr>
              <a:t>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4040" y="34290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sign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530840" y="2362320"/>
            <a:ext cx="51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Webdings"/>
                <a:ea typeface="Webdings"/>
              </a:rPr>
              <a:t>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391520" y="342900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lay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33920" y="2590920"/>
            <a:ext cx="1676160" cy="731880"/>
          </a:xfrm>
          <a:prstGeom prst="rect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0" idx="3"/>
            <a:endCxn id="154" idx="1"/>
          </p:cNvCxnSpPr>
          <p:nvPr/>
        </p:nvCxnSpPr>
        <p:spPr>
          <a:xfrm>
            <a:off x="2013120" y="2957040"/>
            <a:ext cx="1721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2" idx="1"/>
            <a:endCxn id="154" idx="3"/>
          </p:cNvCxnSpPr>
          <p:nvPr/>
        </p:nvCxnSpPr>
        <p:spPr>
          <a:xfrm flipH="1">
            <a:off x="5409720" y="2957040"/>
            <a:ext cx="182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7" name=""/>
          <p:cNvSpPr/>
          <p:nvPr/>
        </p:nvSpPr>
        <p:spPr>
          <a:xfrm>
            <a:off x="2286720" y="251460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rea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866560" y="251460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sum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657600" y="3429000"/>
            <a:ext cx="1782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o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v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in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eak Dinn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Designer-Player Relationshi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06360" y="2362320"/>
            <a:ext cx="51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Webdings"/>
                <a:ea typeface="Webdings"/>
              </a:rPr>
              <a:t>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14040" y="34290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sign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530840" y="2362320"/>
            <a:ext cx="51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Webdings"/>
                <a:ea typeface="Webdings"/>
              </a:rPr>
              <a:t>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391520" y="342900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lay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733920" y="2590920"/>
            <a:ext cx="1676160" cy="731880"/>
          </a:xfrm>
          <a:prstGeom prst="rect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6" name=""/>
          <p:cNvCxnSpPr>
            <a:stCxn id="161" idx="3"/>
            <a:endCxn id="165" idx="1"/>
          </p:cNvCxnSpPr>
          <p:nvPr/>
        </p:nvCxnSpPr>
        <p:spPr>
          <a:xfrm>
            <a:off x="2013120" y="2957040"/>
            <a:ext cx="1721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63" idx="1"/>
            <a:endCxn id="165" idx="3"/>
          </p:cNvCxnSpPr>
          <p:nvPr/>
        </p:nvCxnSpPr>
        <p:spPr>
          <a:xfrm flipH="1">
            <a:off x="5409720" y="2957040"/>
            <a:ext cx="182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8" name=""/>
          <p:cNvSpPr/>
          <p:nvPr/>
        </p:nvSpPr>
        <p:spPr>
          <a:xfrm>
            <a:off x="2286720" y="251460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rea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866560" y="251460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sum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33720" y="4114800"/>
            <a:ext cx="5181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he difference is the way that games ar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consum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 Extreme Opposite Example: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Theatrical Pla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“design team” know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rip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gh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oust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a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mis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ames, on the Contrar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designer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doesn’t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now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will the player play?  How often?  For how lo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re?  With Whom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most importantly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will happen during the gam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bligatory Editori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his lack of predictability is th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essence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of play.  It should be embraced, not eschewed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Formal Model of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“Game Consumption”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522440" y="2971800"/>
            <a:ext cx="6095880" cy="1295280"/>
            <a:chOff x="1522440" y="2971800"/>
            <a:chExt cx="6095880" cy="1295280"/>
          </a:xfrm>
        </p:grpSpPr>
        <p:sp>
          <p:nvSpPr>
            <p:cNvPr id="179" name=""/>
            <p:cNvSpPr/>
            <p:nvPr/>
          </p:nvSpPr>
          <p:spPr>
            <a:xfrm>
              <a:off x="1522440" y="2971800"/>
              <a:ext cx="1752480" cy="129528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Rule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865840" y="2971800"/>
              <a:ext cx="1752480" cy="129528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“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Fun”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732120" y="2971800"/>
              <a:ext cx="1752480" cy="129528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System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Behavior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82" name=""/>
            <p:cNvCxnSpPr>
              <a:stCxn id="179" idx="3"/>
              <a:endCxn id="181" idx="1"/>
            </p:cNvCxnSpPr>
            <p:nvPr/>
          </p:nvCxnSpPr>
          <p:spPr>
            <a:xfrm>
              <a:off x="3274920" y="3619080"/>
              <a:ext cx="45792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83" name=""/>
            <p:cNvCxnSpPr>
              <a:stCxn id="181" idx="3"/>
              <a:endCxn id="180" idx="1"/>
            </p:cNvCxnSpPr>
            <p:nvPr/>
          </p:nvCxnSpPr>
          <p:spPr>
            <a:xfrm>
              <a:off x="5484240" y="3619080"/>
              <a:ext cx="38196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rientation Overvie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 I: Workshop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 II: Outline Our Formal Appro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 III: Formal Approach in Deta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 IV: Tu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Player-Designer Relationship, Revisit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6880" y="2819520"/>
            <a:ext cx="51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Webdings"/>
                <a:ea typeface="Webdings"/>
              </a:rPr>
              <a:t>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04560" y="38862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sign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064360" y="2819520"/>
            <a:ext cx="51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Webdings"/>
                <a:ea typeface="Webdings"/>
              </a:rPr>
              <a:t>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924680" y="388620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lay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1522440" y="2971800"/>
            <a:ext cx="6095880" cy="1295280"/>
            <a:chOff x="1522440" y="2971800"/>
            <a:chExt cx="6095880" cy="1295280"/>
          </a:xfrm>
        </p:grpSpPr>
        <p:sp>
          <p:nvSpPr>
            <p:cNvPr id="190" name=""/>
            <p:cNvSpPr/>
            <p:nvPr/>
          </p:nvSpPr>
          <p:spPr>
            <a:xfrm>
              <a:off x="1522440" y="2971800"/>
              <a:ext cx="1752480" cy="129528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Rule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865840" y="2971800"/>
              <a:ext cx="1752480" cy="129528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“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Fun”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732120" y="2971800"/>
              <a:ext cx="1752480" cy="129528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System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Behavior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3" name=""/>
            <p:cNvCxnSpPr>
              <a:stCxn id="190" idx="3"/>
              <a:endCxn id="192" idx="1"/>
            </p:cNvCxnSpPr>
            <p:nvPr/>
          </p:nvCxnSpPr>
          <p:spPr>
            <a:xfrm>
              <a:off x="3274920" y="3619080"/>
              <a:ext cx="45792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94" name=""/>
            <p:cNvCxnSpPr>
              <a:stCxn id="192" idx="3"/>
              <a:endCxn id="191" idx="1"/>
            </p:cNvCxnSpPr>
            <p:nvPr/>
          </p:nvCxnSpPr>
          <p:spPr>
            <a:xfrm>
              <a:off x="5484240" y="3619080"/>
              <a:ext cx="38196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MDA Framewor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1522440" y="2971800"/>
            <a:ext cx="6095880" cy="1295280"/>
            <a:chOff x="1522440" y="2971800"/>
            <a:chExt cx="6095880" cy="1295280"/>
          </a:xfrm>
        </p:grpSpPr>
        <p:sp>
          <p:nvSpPr>
            <p:cNvPr id="197" name=""/>
            <p:cNvSpPr/>
            <p:nvPr/>
          </p:nvSpPr>
          <p:spPr>
            <a:xfrm>
              <a:off x="1522440" y="2971800"/>
              <a:ext cx="1752480" cy="129528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Mechanic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865840" y="2971800"/>
              <a:ext cx="1752480" cy="129528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Aesthetic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732120" y="2971800"/>
              <a:ext cx="1752480" cy="129528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Dynamic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00" name=""/>
            <p:cNvCxnSpPr>
              <a:stCxn id="197" idx="3"/>
              <a:endCxn id="199" idx="1"/>
            </p:cNvCxnSpPr>
            <p:nvPr/>
          </p:nvCxnSpPr>
          <p:spPr>
            <a:xfrm>
              <a:off x="3274920" y="3619080"/>
              <a:ext cx="45792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01" name=""/>
            <p:cNvCxnSpPr>
              <a:stCxn id="199" idx="3"/>
              <a:endCxn id="198" idx="1"/>
            </p:cNvCxnSpPr>
            <p:nvPr/>
          </p:nvCxnSpPr>
          <p:spPr>
            <a:xfrm>
              <a:off x="5484240" y="3619080"/>
              <a:ext cx="38196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fini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chanics: The rules and concepts that formally specify the game-as-syste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fini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chanics: The rules and concepts that formally specify the game-as-syste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ynamics: The run-time behavior of the game-as-syste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fini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chanics: The rules and concepts that formally specify the game-as-syste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ynamics: The run-time behavior of the game-as-syste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esthetics: Th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desirable emotional respons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evoked by the game dynami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Building Blocks: Formal Mode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Grand Unified The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tead, lots of little mod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dels can be formulas or abstrac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can think of models as “lenses.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covering new models is an ongoing proce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DA is a “Taxonomy” for Mode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nowledge of Aesthet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nowledge of Dynam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nowledge of Mechan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nowledge of th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interaction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tween the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perties of Good Mode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want our models to be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mal (i.e. well-defined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stract (i.e. widely applicable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en (i.e. known to work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On any given game, we expect to use several different abstractions, not one big o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t III: MDA in detai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this part, we discuss Aesthetics, Dynamics and Mechanics in detail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Player’s Perspectiv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1219320" y="2362320"/>
            <a:ext cx="6629040" cy="1295280"/>
            <a:chOff x="1219320" y="2362320"/>
            <a:chExt cx="6629040" cy="1295280"/>
          </a:xfrm>
        </p:grpSpPr>
        <p:sp>
          <p:nvSpPr>
            <p:cNvPr id="218" name=""/>
            <p:cNvSpPr/>
            <p:nvPr/>
          </p:nvSpPr>
          <p:spPr>
            <a:xfrm>
              <a:off x="1219320" y="2362320"/>
              <a:ext cx="1905840" cy="129528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Mechanic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942520" y="2362320"/>
              <a:ext cx="1905840" cy="129528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Aesthetic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622320" y="2362320"/>
              <a:ext cx="1905840" cy="129528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Dynamic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cxnSp>
        <p:nvCxnSpPr>
          <p:cNvPr id="221" name=""/>
          <p:cNvCxnSpPr>
            <a:stCxn id="220" idx="3"/>
            <a:endCxn id="219" idx="1"/>
          </p:cNvCxnSpPr>
          <p:nvPr/>
        </p:nvCxnSpPr>
        <p:spPr>
          <a:xfrm>
            <a:off x="5527440" y="3009600"/>
            <a:ext cx="41508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lg" type="triangle" w="lg"/>
          </a:ln>
        </p:spPr>
      </p:cxnSp>
      <p:cxnSp>
        <p:nvCxnSpPr>
          <p:cNvPr id="222" name=""/>
          <p:cNvCxnSpPr>
            <a:stCxn id="218" idx="3"/>
            <a:endCxn id="220" idx="1"/>
          </p:cNvCxnSpPr>
          <p:nvPr/>
        </p:nvCxnSpPr>
        <p:spPr>
          <a:xfrm>
            <a:off x="3125880" y="3009600"/>
            <a:ext cx="49752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t I: Introdu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this part we will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lain the workshop high concep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cribe the forma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oduce the facul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Designer’s Perspectiv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1219320" y="2362320"/>
            <a:ext cx="6629040" cy="1295280"/>
            <a:chOff x="1219320" y="2362320"/>
            <a:chExt cx="6629040" cy="1295280"/>
          </a:xfrm>
        </p:grpSpPr>
        <p:sp>
          <p:nvSpPr>
            <p:cNvPr id="225" name=""/>
            <p:cNvSpPr/>
            <p:nvPr/>
          </p:nvSpPr>
          <p:spPr>
            <a:xfrm>
              <a:off x="1219320" y="2362320"/>
              <a:ext cx="1905840" cy="129528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Mechanic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942520" y="2362320"/>
              <a:ext cx="1905840" cy="129528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Aesthetic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622320" y="2362320"/>
              <a:ext cx="1905840" cy="129528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Dynamic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cxnSp>
        <p:nvCxnSpPr>
          <p:cNvPr id="228" name=""/>
          <p:cNvCxnSpPr>
            <a:stCxn id="227" idx="3"/>
            <a:endCxn id="226" idx="1"/>
          </p:cNvCxnSpPr>
          <p:nvPr/>
        </p:nvCxnSpPr>
        <p:spPr>
          <a:xfrm>
            <a:off x="5527440" y="3009600"/>
            <a:ext cx="41508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lg" type="triangle" w="lg"/>
          </a:ln>
        </p:spPr>
      </p:cxnSp>
      <p:cxnSp>
        <p:nvCxnSpPr>
          <p:cNvPr id="229" name=""/>
          <p:cNvCxnSpPr>
            <a:stCxn id="225" idx="3"/>
            <a:endCxn id="227" idx="1"/>
          </p:cNvCxnSpPr>
          <p:nvPr/>
        </p:nvCxnSpPr>
        <p:spPr>
          <a:xfrm>
            <a:off x="3125880" y="3009600"/>
            <a:ext cx="49752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nderstanding Aesthet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We need to get past words like “fun” and “gameplay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kinds of “fun” are the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we know a particular kind of “fun” when we see i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ight Kinds of “Fun”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ight Kinds of "Fun"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Sens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sense-pleas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ight Kinds of "Fun"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Sens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sense-pleas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Fantas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make-belie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ight Kinds of "Fun"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Sens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sense-pleas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Fantas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make-belie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Narr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dra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ight Kinds of "Fun"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Sens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sense-pleas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Fantas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make-belie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Narr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dra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 Challen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obstacle cour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ight Kinds of "Fun"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Sens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sense-pleas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Fantas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make-belie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Narr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dra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 Challen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obstacle cour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 Fellowsh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social frame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ight Kinds of "Fun"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Sens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sense-pleas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Fantas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make-belie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Narr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dra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 Challen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obstacle cour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 Fellowsh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social frame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 Discov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uncharted territ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ight Kinds of "Fun"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Sens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sense-pleas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Fantas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make-belie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Narr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dra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 Challen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obstacle cour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 Fellowsh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social frame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 Discov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uncharted territ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 Expre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self-discove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is Workshop Is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its third ye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be hands-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cused on th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un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proce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ounded in a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formal approac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o game desig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nded to be open-end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ight Kinds of "Fun"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Sens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sense-pleas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Fantas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make-belie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Narr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dra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 Challen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obstacle cour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 Fellowsh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social frame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 Discov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uncharted territ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 Expre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self-discove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 Masoch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submi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arifying Our Aesthet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harade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“fun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Quak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“fun.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nal Fantas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“fun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arifying Our Aesthet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harad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llowship, Expression, Challen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Quak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llenge, Sensation, Competition, Fantas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nal Fantas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ntasy, Narrative, Expression, Discovery, Challenge, Masoch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ach game pursues multiple aestheti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gain, there is no Game Unified Theor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arifying Our Go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designers, we can choose certain aesthetics as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goal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our game desig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more than a one-word definition of our goal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is an “Aesthetic Model?”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rigorous definition of an aesthetic go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rves as an “aesthetic compass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tes criteria for success as well as possible modes of failure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57913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ome examples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oal: Competi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del: A game is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ompetitiv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f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yers are adversar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yers have an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ongoing emotional investment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defeating each o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Failure Mod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player feels that he can’t wi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player can’t measure his progre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oal: Realistic Flight Simul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ssible Models: Our flight dynamics ar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ealisti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f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match a mathematical formula,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or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pass our “realism checklist,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ilure Mod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unter-intuitive system behavi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oal: Dram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del: A game is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ramati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f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s central conflict creates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ramatic tens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ramatic tension builds towards a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limax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838080" y="3657600"/>
          <a:ext cx="6400800" cy="28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657600"/>
                    <a:ext cx="6400800" cy="28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oal: Dram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ilure Mod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ck of conflic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ck of tens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onflict’s outcome is obvious (no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uncertaint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sense of forward progress (no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nevitabilit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nsion does not increase towards a climax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326280" y="6095880"/>
            <a:ext cx="239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On to Dynamics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nderstanding Dynam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can w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predict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xplain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ehavior of the game-as-system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is Workshop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Isn’t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the game “industry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the game design “profession.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cerned with the early stages of game design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one-way stre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ormalizing Game Dynam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rot="16200000">
            <a:off x="4457880" y="2247840"/>
            <a:ext cx="1218960" cy="1447920"/>
          </a:xfrm>
          <a:custGeom>
            <a:avLst/>
            <a:gdLst>
              <a:gd name="textAreaLeft" fmla="*/ 267840 w 1218960"/>
              <a:gd name="textAreaRight" fmla="*/ 951120 w 1218960"/>
              <a:gd name="textAreaTop" fmla="*/ 318240 h 1447920"/>
              <a:gd name="textAreaBottom" fmla="*/ 11296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0" y="2743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209680"/>
            <a:ext cx="3962520" cy="213372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343400" y="320040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343400" y="26668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86" name=""/>
          <p:cNvCxnSpPr>
            <a:stCxn id="287" idx="3"/>
            <a:endCxn id="284" idx="1"/>
          </p:cNvCxnSpPr>
          <p:nvPr/>
        </p:nvCxnSpPr>
        <p:spPr>
          <a:xfrm>
            <a:off x="3809880" y="3276360"/>
            <a:ext cx="53424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88" name=""/>
          <p:cNvSpPr/>
          <p:nvPr/>
        </p:nvSpPr>
        <p:spPr>
          <a:xfrm>
            <a:off x="5638680" y="304812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638680" y="274320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90" name=""/>
          <p:cNvCxnSpPr>
            <a:stCxn id="288" idx="3"/>
            <a:endCxn id="291" idx="3"/>
          </p:cNvCxnSpPr>
          <p:nvPr/>
        </p:nvCxnSpPr>
        <p:spPr>
          <a:xfrm flipH="1">
            <a:off x="3809520" y="3124080"/>
            <a:ext cx="1982160" cy="656640"/>
          </a:xfrm>
          <a:prstGeom prst="bentConnector3">
            <a:avLst>
              <a:gd name="adj1" fmla="val -1153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19320" y="2514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477120" y="2590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94" name=""/>
          <p:cNvCxnSpPr>
            <a:stCxn id="292" idx="3"/>
            <a:endCxn id="285" idx="1"/>
          </p:cNvCxnSpPr>
          <p:nvPr/>
        </p:nvCxnSpPr>
        <p:spPr>
          <a:xfrm>
            <a:off x="2057400" y="2742840"/>
            <a:ext cx="22867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95" name=""/>
          <p:cNvCxnSpPr>
            <a:stCxn id="289" idx="3"/>
            <a:endCxn id="293" idx="1"/>
          </p:cNvCxnSpPr>
          <p:nvPr/>
        </p:nvCxnSpPr>
        <p:spPr>
          <a:xfrm>
            <a:off x="5790960" y="2819160"/>
            <a:ext cx="686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grpSp>
        <p:nvGrpSpPr>
          <p:cNvPr id="296" name=""/>
          <p:cNvGrpSpPr/>
          <p:nvPr/>
        </p:nvGrpSpPr>
        <p:grpSpPr>
          <a:xfrm>
            <a:off x="2514600" y="3048120"/>
            <a:ext cx="1295280" cy="914400"/>
            <a:chOff x="2514600" y="3048120"/>
            <a:chExt cx="1295280" cy="914400"/>
          </a:xfrm>
        </p:grpSpPr>
        <p:sp>
          <p:nvSpPr>
            <p:cNvPr id="297" name=""/>
            <p:cNvSpPr/>
            <p:nvPr/>
          </p:nvSpPr>
          <p:spPr>
            <a:xfrm>
              <a:off x="2514600" y="3048120"/>
              <a:ext cx="1295280" cy="91440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742840" y="323064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ta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657240" y="3687840"/>
              <a:ext cx="152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657240" y="3200760"/>
              <a:ext cx="1522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1143000" y="29718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Play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553080" y="36576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Graphics/Soun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600200" y="472428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The “State Machine” Mod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86400" y="60199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amples: Chess, Qua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dels of Game Dynam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gain, no Grand Unified The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tead, a collection of many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Dynamic Model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ynamics models are analytical in natur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9480" y="57913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ome examples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Random Variab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is a model of 2d6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1600200" y="2563920"/>
          <a:ext cx="5943600" cy="400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563920"/>
                    <a:ext cx="5943600" cy="40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"/>
          <p:cNvSpPr/>
          <p:nvPr/>
        </p:nvSpPr>
        <p:spPr>
          <a:xfrm rot="16200000">
            <a:off x="1310040" y="4161960"/>
            <a:ext cx="155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Chance in 3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088160" y="6172200"/>
            <a:ext cx="9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Die ro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Feedback Syst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 feedback system monitors and regulates its own st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295280" y="1600200"/>
            <a:ext cx="198144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352680" y="274320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 flipV="1">
            <a:off x="3124080" y="4800240"/>
            <a:ext cx="274320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3124080" y="5257800"/>
            <a:ext cx="274320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400800" y="3733920"/>
            <a:ext cx="0" cy="99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191840" y="4495680"/>
            <a:ext cx="105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oo Col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192200" y="5410080"/>
            <a:ext cx="95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oo Ho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027400" y="6172200"/>
            <a:ext cx="27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 Ideal Thermost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2" name="therm" descr=""/>
          <p:cNvPicPr/>
          <p:nvPr/>
        </p:nvPicPr>
        <p:blipFill>
          <a:blip r:embed="rId1"/>
          <a:stretch/>
        </p:blipFill>
        <p:spPr>
          <a:xfrm>
            <a:off x="5943600" y="1752480"/>
            <a:ext cx="857160" cy="1828800"/>
          </a:xfrm>
          <a:prstGeom prst="rect">
            <a:avLst/>
          </a:prstGeom>
          <a:ln w="0">
            <a:noFill/>
          </a:ln>
        </p:spPr>
      </p:pic>
      <p:pic>
        <p:nvPicPr>
          <p:cNvPr id="323" name="control" descr=""/>
          <p:cNvPicPr/>
          <p:nvPr/>
        </p:nvPicPr>
        <p:blipFill>
          <a:blip r:embed="rId2"/>
          <a:stretch/>
        </p:blipFill>
        <p:spPr>
          <a:xfrm>
            <a:off x="5943600" y="4876920"/>
            <a:ext cx="1587600" cy="558720"/>
          </a:xfrm>
          <a:prstGeom prst="rect">
            <a:avLst/>
          </a:prstGeom>
          <a:ln w="0">
            <a:noFill/>
          </a:ln>
        </p:spPr>
      </p:pic>
      <p:pic>
        <p:nvPicPr>
          <p:cNvPr id="324" name="cooler" descr=""/>
          <p:cNvPicPr/>
          <p:nvPr/>
        </p:nvPicPr>
        <p:blipFill>
          <a:blip r:embed="rId3"/>
          <a:stretch/>
        </p:blipFill>
        <p:spPr>
          <a:xfrm>
            <a:off x="1295280" y="5181480"/>
            <a:ext cx="1727280" cy="1079640"/>
          </a:xfrm>
          <a:prstGeom prst="rect">
            <a:avLst/>
          </a:prstGeom>
          <a:ln w="0">
            <a:noFill/>
          </a:ln>
        </p:spPr>
      </p:pic>
      <p:pic>
        <p:nvPicPr>
          <p:cNvPr id="325" name="heater" descr=""/>
          <p:cNvPicPr/>
          <p:nvPr/>
        </p:nvPicPr>
        <p:blipFill>
          <a:blip r:embed="rId4"/>
          <a:stretch/>
        </p:blipFill>
        <p:spPr>
          <a:xfrm>
            <a:off x="1295280" y="3962520"/>
            <a:ext cx="1752840" cy="109224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1028880" y="3200400"/>
            <a:ext cx="266400" cy="1295280"/>
          </a:xfrm>
          <a:custGeom>
            <a:avLst/>
            <a:gdLst/>
            <a:ahLst/>
            <a:rect l="l" t="t" r="r" b="b"/>
            <a:pathLst>
              <a:path w="168" h="624">
                <a:moveTo>
                  <a:pt x="120" y="624"/>
                </a:moveTo>
                <a:cubicBezTo>
                  <a:pt x="80" y="564"/>
                  <a:pt x="40" y="504"/>
                  <a:pt x="24" y="432"/>
                </a:cubicBezTo>
                <a:cubicBezTo>
                  <a:pt x="8" y="360"/>
                  <a:pt x="0" y="264"/>
                  <a:pt x="24" y="192"/>
                </a:cubicBezTo>
                <a:cubicBezTo>
                  <a:pt x="48" y="120"/>
                  <a:pt x="108" y="60"/>
                  <a:pt x="168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11360" y="2819520"/>
            <a:ext cx="583920" cy="2438280"/>
          </a:xfrm>
          <a:custGeom>
            <a:avLst/>
            <a:gdLst/>
            <a:ahLst/>
            <a:rect l="l" t="t" r="r" b="b"/>
            <a:pathLst>
              <a:path w="368" h="1536">
                <a:moveTo>
                  <a:pt x="320" y="1536"/>
                </a:moveTo>
                <a:cubicBezTo>
                  <a:pt x="192" y="1280"/>
                  <a:pt x="64" y="1024"/>
                  <a:pt x="32" y="816"/>
                </a:cubicBezTo>
                <a:cubicBezTo>
                  <a:pt x="0" y="608"/>
                  <a:pt x="72" y="424"/>
                  <a:pt x="128" y="288"/>
                </a:cubicBezTo>
                <a:cubicBezTo>
                  <a:pt x="184" y="152"/>
                  <a:pt x="276" y="76"/>
                  <a:pt x="368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840360" y="2403360"/>
            <a:ext cx="18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rmome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019200" y="54864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l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677240" y="62485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ol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752840" y="35053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a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Operant Condition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layer is part of the system, too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sychology gives us models to explain and predict the player’s behavior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ere Models Come From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alysis of existing gam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her Fields: Math, Psychology, Engineering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r own experie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324480" y="6095880"/>
            <a:ext cx="249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On to Mechanics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nderstanding Mechan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’s a vast library of common game mechani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ds: Shuffling, Trick-Taking, Bid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oters: Ammunition, Spawn Poi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lf: Sand Traps, Water Haz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chanics vs. Dynam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to acknowledge mechanics and dynamics as distinct concep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ynamics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merg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om Mechani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teraction Mode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o specific dynamics emerge from specific mechanic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o specific dynamics evoke specific aesthetic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You’ll be Do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ying gam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alyzing gam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itiquing gam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difying gam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ining gam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Time Press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me pressure” is a dynami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can create dramatic tens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rious mechanics create time pressure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ple time lim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ce” mons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pleting resour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ving Forward…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t’s hope the future brings u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rich aesthetic vocabular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eclectic library of game mechani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catalog of formal models: Aesthetic, Dynamic, Inter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other words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Formal Abstract Design Tools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t IV: Tun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this part we will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fin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un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sent a formal approac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3772080" y="2209680"/>
            <a:ext cx="1752480" cy="457200"/>
          </a:xfrm>
          <a:prstGeom prst="rightArrow">
            <a:avLst>
              <a:gd name="adj1" fmla="val 50000"/>
              <a:gd name="adj2" fmla="val 95827"/>
            </a:avLst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we mean by “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Tuning:”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5943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uning is a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terativ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76520" y="1523880"/>
            <a:ext cx="1904760" cy="190512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638680" y="1447920"/>
            <a:ext cx="1905120" cy="19047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alyz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657600" y="3886200"/>
            <a:ext cx="1905120" cy="190512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vi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rot="7615200">
            <a:off x="5162040" y="3409560"/>
            <a:ext cx="914400" cy="495000"/>
          </a:xfrm>
          <a:prstGeom prst="rightArrow">
            <a:avLst>
              <a:gd name="adj1" fmla="val 50000"/>
              <a:gd name="adj2" fmla="val 46182"/>
            </a:avLst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 rot="13984800">
            <a:off x="3104640" y="3485160"/>
            <a:ext cx="914400" cy="495000"/>
          </a:xfrm>
          <a:prstGeom prst="rightArrow">
            <a:avLst>
              <a:gd name="adj1" fmla="val 50000"/>
              <a:gd name="adj2" fmla="val 46182"/>
            </a:avLst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e’re not limited to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ameter tweak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ddling with knob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DA in the Tuning Proces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esthetic Models help u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ticulate our goal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int out our game’s flaw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asure our progre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ynamic Models help u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inpoint our problem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th kinds help u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aluate possible revi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earning From the Tuning Proces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tween iterations, we re-evaluat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r goal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r mod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r assump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ometimes we need to revise our own thinking as wel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Tuning Proces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efore we start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now our aesthetic goa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ile we iterate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esthetic and dynamics models guide our w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etween Itera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rn from the proce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Time for Coffee..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fter the break, go to the classroom that matches the color of your poker chip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lu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d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t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t V: Some Common Them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re are some themes you’ll see throughout the worksho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Few Ground Ru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ease attend the whole th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llaborate, Share, and Encoura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ve the “meta-discussion” for the very en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me: Dynamics and Fantas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r game dynamics hav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meaning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in our game’s core fantas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at meaning may or may not be compatib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order to remain faithful to our subject matter, dynamics and fantasy must be in alignmen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murphytitle" descr=""/>
          <p:cNvPicPr/>
          <p:nvPr/>
        </p:nvPicPr>
        <p:blipFill>
          <a:blip r:embed="rId1"/>
          <a:stretch/>
        </p:blipFill>
        <p:spPr>
          <a:xfrm>
            <a:off x="3201840" y="304920"/>
            <a:ext cx="2743200" cy="914400"/>
          </a:xfrm>
          <a:prstGeom prst="rect">
            <a:avLst/>
          </a:prstGeom>
          <a:ln w="0">
            <a:noFill/>
          </a:ln>
        </p:spPr>
      </p:pic>
      <p:pic>
        <p:nvPicPr>
          <p:cNvPr id="374" name="0211" descr=""/>
          <p:cNvPicPr/>
          <p:nvPr/>
        </p:nvPicPr>
        <p:blipFill>
          <a:blip r:embed="rId2"/>
          <a:stretch/>
        </p:blipFill>
        <p:spPr>
          <a:xfrm>
            <a:off x="622440" y="1447920"/>
            <a:ext cx="3773520" cy="4572000"/>
          </a:xfrm>
          <a:prstGeom prst="rect">
            <a:avLst/>
          </a:prstGeom>
          <a:ln w="0">
            <a:noFill/>
          </a:ln>
        </p:spPr>
      </p:pic>
      <p:pic>
        <p:nvPicPr>
          <p:cNvPr id="375" name="0303" descr=""/>
          <p:cNvPicPr/>
          <p:nvPr/>
        </p:nvPicPr>
        <p:blipFill>
          <a:blip r:embed="rId3"/>
          <a:stretch/>
        </p:blipFill>
        <p:spPr>
          <a:xfrm>
            <a:off x="4800600" y="1447920"/>
            <a:ext cx="3757680" cy="45720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609480" y="6172200"/>
            <a:ext cx="31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© Steve Jackson Ga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20640" y="6172200"/>
            <a:ext cx="25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ww.sjgames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me: State Space and Design Flexibili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ate spac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f a game is the set of possible states the system can be i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larger the state space, the easier it is to make chan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we modify our design, we can expect the state space to grow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orkshop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all-group activ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in Exercises (3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ctives (choose 1 from 3 each da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1T05:33:25Z</dcterms:created>
  <dc:creator>mleblanc</dc:creator>
  <dc:description/>
  <dc:language>en-US</dc:language>
  <cp:lastModifiedBy> Marc LeBlanc</cp:lastModifiedBy>
  <dcterms:modified xsi:type="dcterms:W3CDTF">2003-03-04T16:07:19Z</dcterms:modified>
  <cp:revision>32</cp:revision>
  <dc:subject/>
  <dc:title>Game Design and Tuning Workshop</dc:title>
</cp:coreProperties>
</file>