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FC46F-1578-44FB-9C46-F46B9E007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art where they sleep in the bed they m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roken up into multiple slides for effect only.  Attendees shouldn’t feel required to tackle the parts of this problem in the prescribed order; if they want to work on the 4-player problem before the 3-player problem, they should feel free to.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is the last slide for day 1.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ly obviously, this is the first slide for day 2.  You may need to manage this process a little.   Spend about half an hour on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cit results from each group.  Discuss.  Give each group 3-4 minutes.  About 20 minutes total.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pretty much impossible to solve this problem without increasing the size of the “state space.”  The point here is that having more state space helps the </a:t>
            </a:r>
            <a:r>
              <a:rPr b="0" i="1" lang="en-US" sz="1200" spc="-1" strike="noStrike">
                <a:solidFill>
                  <a:srgbClr val="000000"/>
                </a:solidFill>
                <a:latin typeface="Times New Roman"/>
              </a:rPr>
              <a:t>designer </a:t>
            </a:r>
            <a:r>
              <a:rPr b="0" lang="en-US" sz="1200" spc="-1" strike="noStrike">
                <a:solidFill>
                  <a:srgbClr val="000000"/>
                </a:solidFill>
                <a:latin typeface="Times New Roman"/>
              </a:rPr>
              <a:t>by giving him more room to work.  A good strategy for this exercise is to increase the state space before even thinking about adding players.  (e.g. Use a larger board, etc.)   How many groups actually took this strate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pend more than 5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n’t have any expected results here.  Though, the massive asymmetry present in 3 musketeers is also present in single-player digital games, so that’s a simila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rt of an obligatory “tie it back to digital media” question.  If it’s not bearing any fruit, move o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attendees a good half hour or so to play.  Let everyone get a feel for the game.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discussion as time permits.  Try to tie it back to digital ga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ut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art where the attendees make the bed that they will eventually have to sleep in.  A certain amount of rigor is important here.  Don’t let them be vague; make sure you can come up with a model for every aesthetic you identif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observe that the game’s mechanics do a good job of conveying its subject matter without much in the way of visual or textual c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Twelve (theoretically, I don’t know if there’s an actual board state that has 12 moves, but it seems like there ought to b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on next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Two, once you take into account the rotational and translational symmetery of the bo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t most Th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c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musketeer player loses, it must be because he has no choice on his last m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musketeer player wins, then on his last move there must be only one possible enemy piece he can consume.  If there is more than one such piece, then the other can be moved so that it is can be consumed on the next turn, and thus this isn’t the last move of the game.   If there is only one piece the musketeers could consume, there could still be multiple musketeer pieces that are able to consume it.  So in this case there are up to 3 possible last mo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larify, the “choices” is the number of </a:t>
            </a:r>
            <a:r>
              <a:rPr b="0" i="1" lang="en-US" sz="1200" spc="-1" strike="noStrike">
                <a:solidFill>
                  <a:srgbClr val="000000"/>
                </a:solidFill>
                <a:latin typeface="Times New Roman"/>
              </a:rPr>
              <a:t>musketeer</a:t>
            </a:r>
            <a:r>
              <a:rPr b="0" lang="en-US" sz="1200" spc="-1" strike="noStrike">
                <a:solidFill>
                  <a:srgbClr val="000000"/>
                </a:solidFill>
                <a:latin typeface="Times New Roman"/>
              </a:rPr>
              <a:t> choices, just to keep things si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starts at 2, gets bigger, peaks at some point, and then goes back down to around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hat this curve matches the canonical “dramatic structure” curve, and with good reason:  Dramatic tension requires </a:t>
            </a:r>
            <a:r>
              <a:rPr b="0" i="1" lang="en-US" sz="1200" spc="-1" strike="noStrike">
                <a:solidFill>
                  <a:srgbClr val="000000"/>
                </a:solidFill>
                <a:latin typeface="Times New Roman"/>
              </a:rPr>
              <a:t>uncertainty </a:t>
            </a:r>
            <a:r>
              <a:rPr b="0" lang="en-US" sz="1200" spc="-1" strike="noStrike">
                <a:solidFill>
                  <a:srgbClr val="000000"/>
                </a:solidFill>
                <a:latin typeface="Times New Roman"/>
              </a:rPr>
              <a:t>and more choices permits more uncertainty (you can have choices without uncertainty, but you can’t have uncertainty without cho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49181-4473-4289-A15F-BDFF75AD6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9C26E-A1CB-46F9-8CEA-248C0B94E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4D916-6D1D-4E93-BE95-DC5FAF2C1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B7332-99D6-4DA1-BBFD-873FC1E9C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36AC3-D8C4-4EFB-92C5-801B7E1C1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C9291-200B-456C-8BA2-A5EF0725C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40EA0-1016-430C-B3E1-FA5CC59DA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DF7CF-D20C-4849-AD1B-D396C27A2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B7A41-18F2-43D5-B716-27122ADAB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41A25-69EC-4ED5-87EC-B4186E742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E271E-B4A6-47F9-957C-F034F88B6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66548-BF4B-4557-93D5-6B8723760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3DDA-2CA2-4A1B-AAB4-9730DDB8F4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ree Musketeers</a:t>
            </a:r>
            <a:endParaRPr b="0" lang="en-US" sz="4400" spc="-1" strike="noStrike">
              <a:solidFill>
                <a:srgbClr val="ffff00"/>
              </a:solidFill>
              <a:latin typeface="Times New Roman"/>
            </a:endParaRPr>
          </a:p>
        </p:txBody>
      </p:sp>
      <p:sp>
        <p:nvSpPr>
          <p:cNvPr id="49" name=""/>
          <p:cNvSpPr/>
          <p:nvPr/>
        </p:nvSpPr>
        <p:spPr>
          <a:xfrm>
            <a:off x="2973600" y="5562720"/>
            <a:ext cx="3196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me Design Worksho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DC 200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hile remaining faithful to the aesthetic qualities we identified in the breakdown:</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hile remaining faithful to the aesthetic qualities we identified in the breakdown:</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rules to accommodate 3 players.</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hile remaining faithful to the aesthetic qualities we identified in the breakdown:</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rules to accommodate 3 player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rules to accommodate 4 players.</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hile remaining faithful to the aesthetic qualities we identified in the breakdown:</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rules to accommodate 3 player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rules to accommodate 4 player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you come up with a single rules set that accommodates 2-4 players?</a:t>
            </a: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85800" y="990720"/>
            <a:ext cx="77724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Return to this room tomorrow morning to continue this exercis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If you want to work on the exercise tonight, feel free to take supplies with you.  But PLEASE return them.  We need the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elcome Back!</a:t>
            </a:r>
            <a:endParaRPr b="0" lang="en-US" sz="4400" spc="-1" strike="noStrike">
              <a:solidFill>
                <a:srgbClr val="ffff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ue working on your Three Musketeers chang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y to have something playable by the 11AM coffee break.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Time for Coffee!</a:t>
            </a:r>
            <a:endParaRPr b="0" lang="en-US" sz="4400" spc="-1" strike="noStrike">
              <a:solidFill>
                <a:srgbClr val="ffff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a break, then come back and playtest your desig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ime permits, give your design to another group to t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a:t>
            </a:r>
            <a:endParaRPr b="0" lang="en-US" sz="4400" spc="-1" strike="noStrike">
              <a:solidFill>
                <a:srgbClr val="ffff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compare solutions.  What different approaches did we tak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many possible board positions does your game hav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it compare to the original ga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239"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 the problem of adding multiplayer  capability to a single-player digital gam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is this exercise similar?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is it differ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bout converting a multiplayer game into a </a:t>
            </a:r>
            <a:r>
              <a:rPr b="0" i="1" lang="en-US" sz="3200" spc="-1" strike="noStrike">
                <a:solidFill>
                  <a:srgbClr val="ffffff"/>
                </a:solidFill>
                <a:latin typeface="Times New Roman"/>
              </a:rPr>
              <a:t>massively </a:t>
            </a:r>
            <a:r>
              <a:rPr b="0" lang="en-US" sz="3200" spc="-1" strike="noStrike">
                <a:solidFill>
                  <a:srgbClr val="ffffff"/>
                </a:solidFill>
                <a:latin typeface="Times New Roman"/>
              </a:rPr>
              <a:t>multiplayer gam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les for Three Musketeers</a:t>
            </a:r>
            <a:endParaRPr b="0" lang="en-US" sz="4400" spc="-1" strike="noStrike">
              <a:solidFill>
                <a:srgbClr val="ffff00"/>
              </a:solidFill>
              <a:latin typeface="Times New Roman"/>
            </a:endParaRPr>
          </a:p>
        </p:txBody>
      </p:sp>
      <p:sp>
        <p:nvSpPr>
          <p:cNvPr id="51" name="PlaceHolder 2"/>
          <p:cNvSpPr>
            <a:spLocks noGrp="1"/>
          </p:cNvSpPr>
          <p:nvPr>
            <p:ph/>
          </p:nvPr>
        </p:nvSpPr>
        <p:spPr>
          <a:xfrm>
            <a:off x="380520" y="1447920"/>
            <a:ext cx="57150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yers take turns moving one of their pieces.  No diagonal mov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sketeers move by capturing a nearby enem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dinal’s men move to a nearby empty spa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dinal wins if the Musketeers are in the same row or colum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sketeers win if they cannot move.</a:t>
            </a:r>
            <a:endParaRPr b="0" lang="en-US" sz="2800" spc="-1" strike="noStrike">
              <a:solidFill>
                <a:srgbClr val="ffffff"/>
              </a:solidFill>
              <a:latin typeface="Times New Roman"/>
            </a:endParaRPr>
          </a:p>
        </p:txBody>
      </p:sp>
      <p:grpSp>
        <p:nvGrpSpPr>
          <p:cNvPr id="52" name=""/>
          <p:cNvGrpSpPr/>
          <p:nvPr/>
        </p:nvGrpSpPr>
        <p:grpSpPr>
          <a:xfrm>
            <a:off x="6248520" y="2666880"/>
            <a:ext cx="2280960" cy="2281320"/>
            <a:chOff x="6248520" y="2666880"/>
            <a:chExt cx="2280960" cy="2281320"/>
          </a:xfrm>
        </p:grpSpPr>
        <p:sp>
          <p:nvSpPr>
            <p:cNvPr id="53" name=""/>
            <p:cNvSpPr/>
            <p:nvPr/>
          </p:nvSpPr>
          <p:spPr>
            <a:xfrm>
              <a:off x="6248520" y="26668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6704640" y="26668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160760" y="26668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7617240" y="26668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8073360" y="26668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248520" y="31230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6704640" y="31230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7160760" y="31230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7617240" y="31230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8073360" y="31230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6248520" y="35794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6704640" y="35794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7160760" y="35794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7617240" y="35794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8073360" y="35794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6248520" y="40356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704640" y="40356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7160760" y="40356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7617240" y="40356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8073360" y="40356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6248520" y="44920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6704640" y="44920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7160760" y="44920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617240" y="44920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8073360" y="44920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218000" y="45489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74120" y="45489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8130240" y="45489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61520" y="45489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6305400" y="4548960"/>
              <a:ext cx="342000" cy="34200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218000" y="40928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74120" y="40928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8130240" y="40928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6761520" y="40928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6305400" y="40928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218000" y="3636360"/>
              <a:ext cx="342000" cy="34200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74120" y="36363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8130240" y="36363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6761520" y="36363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6305400" y="36363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218000" y="31802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74120" y="31802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8130240" y="31802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6761520" y="31802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6305400" y="31802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218000" y="27237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74120" y="27237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8130240" y="2723760"/>
              <a:ext cx="342000" cy="34200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6761520" y="27237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6305400" y="27237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3" name=""/>
          <p:cNvSpPr/>
          <p:nvPr/>
        </p:nvSpPr>
        <p:spPr>
          <a:xfrm>
            <a:off x="6400080" y="2057400"/>
            <a:ext cx="19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ting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y Final Observation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servation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esthetic Breakdown</a:t>
            </a:r>
            <a:endParaRPr b="0" lang="en-US" sz="4400" spc="-1" strike="noStrike">
              <a:solidFill>
                <a:srgbClr val="ffff00"/>
              </a:solidFill>
              <a:latin typeface="Times New Roman"/>
            </a:endParaRPr>
          </a:p>
        </p:txBody>
      </p:sp>
      <p:sp>
        <p:nvSpPr>
          <p:cNvPr id="106"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hat are the aesthetics of  Three Musketeer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we come up with aesthetic model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1.  What is the maximum number of choices the musketeer player can have on his tur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1.  What is the maximum number of choices the musketeer player can have on his tur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2.  How many first moves are the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1.  What is the maximum number of choices the musketeer player can have on his tur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2.  How many first moves are there?</a:t>
            </a:r>
            <a:endParaRPr b="0" lang="en-US" sz="3200" spc="-1" strike="noStrike">
              <a:solidFill>
                <a:srgbClr val="ffffff"/>
              </a:solidFill>
              <a:latin typeface="Times New Roman"/>
            </a:endParaRPr>
          </a:p>
        </p:txBody>
      </p:sp>
      <p:grpSp>
        <p:nvGrpSpPr>
          <p:cNvPr id="113" name=""/>
          <p:cNvGrpSpPr/>
          <p:nvPr/>
        </p:nvGrpSpPr>
        <p:grpSpPr>
          <a:xfrm>
            <a:off x="1905120" y="3886200"/>
            <a:ext cx="2280960" cy="2281320"/>
            <a:chOff x="1905120" y="3886200"/>
            <a:chExt cx="2280960" cy="2281320"/>
          </a:xfrm>
        </p:grpSpPr>
        <p:sp>
          <p:nvSpPr>
            <p:cNvPr id="114" name=""/>
            <p:cNvSpPr/>
            <p:nvPr/>
          </p:nvSpPr>
          <p:spPr>
            <a:xfrm>
              <a:off x="1905120" y="388620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2360520" y="388620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2817720" y="3886200"/>
              <a:ext cx="45576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3273480" y="388620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3730680" y="388620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905120" y="43419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360520" y="43419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817720" y="4341960"/>
              <a:ext cx="45576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3273480" y="43419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730680" y="43419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905120" y="4799160"/>
              <a:ext cx="4554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2360520" y="4799160"/>
              <a:ext cx="4572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817720" y="4799160"/>
              <a:ext cx="45576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273480" y="4799160"/>
              <a:ext cx="4572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730680" y="4799160"/>
              <a:ext cx="4554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905120" y="52545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360520" y="52545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817720" y="5254560"/>
              <a:ext cx="45576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273480" y="52545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3730680" y="52545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1905120" y="571176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2360520" y="571176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2817720" y="5711760"/>
              <a:ext cx="45576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73480" y="571176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730680" y="571176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2874960" y="576900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3330720" y="5769000"/>
              <a:ext cx="34272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787920" y="576900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2417760" y="5769000"/>
              <a:ext cx="3430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1962000" y="5769000"/>
              <a:ext cx="341640" cy="34128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874960" y="5311800"/>
              <a:ext cx="34128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330720" y="5311800"/>
              <a:ext cx="34272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787920" y="5311800"/>
              <a:ext cx="34128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417760" y="5311800"/>
              <a:ext cx="34308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1962000" y="5311800"/>
              <a:ext cx="34164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874960" y="4856040"/>
              <a:ext cx="341280" cy="34128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3330720" y="4856040"/>
              <a:ext cx="34272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787920" y="485604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2417760" y="4856040"/>
              <a:ext cx="3430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1962000" y="4856040"/>
              <a:ext cx="34164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2874960" y="4398840"/>
              <a:ext cx="34128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330720" y="4398840"/>
              <a:ext cx="34272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2417760" y="4398840"/>
              <a:ext cx="34308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962000" y="4398840"/>
              <a:ext cx="34164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874960" y="394344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330720" y="3943440"/>
              <a:ext cx="34272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3787920" y="4398840"/>
              <a:ext cx="341280" cy="34128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2417760" y="3943440"/>
              <a:ext cx="3430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962000" y="3943440"/>
              <a:ext cx="34164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3" name=""/>
          <p:cNvGrpSpPr/>
          <p:nvPr/>
        </p:nvGrpSpPr>
        <p:grpSpPr>
          <a:xfrm>
            <a:off x="4648320" y="3886200"/>
            <a:ext cx="2280960" cy="2281320"/>
            <a:chOff x="4648320" y="3886200"/>
            <a:chExt cx="2280960" cy="2281320"/>
          </a:xfrm>
        </p:grpSpPr>
        <p:sp>
          <p:nvSpPr>
            <p:cNvPr id="164" name=""/>
            <p:cNvSpPr/>
            <p:nvPr/>
          </p:nvSpPr>
          <p:spPr>
            <a:xfrm>
              <a:off x="4648320" y="388620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103720" y="388620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560920" y="3886200"/>
              <a:ext cx="45576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6016680" y="388620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6473880" y="388620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4648320" y="43419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5103720" y="43419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5560920" y="4341960"/>
              <a:ext cx="45576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6016680" y="43419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6473880" y="43419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4648320" y="4799160"/>
              <a:ext cx="4554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103720" y="4799160"/>
              <a:ext cx="4572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560920" y="4799160"/>
              <a:ext cx="45576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016680" y="4799160"/>
              <a:ext cx="4572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6473880" y="4799160"/>
              <a:ext cx="4554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4648320" y="52545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103720" y="52545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560920" y="5254560"/>
              <a:ext cx="45576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6016680" y="52545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6473880" y="52545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648320" y="571176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5103720" y="571176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5560920" y="5711760"/>
              <a:ext cx="45576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016680" y="571176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473880" y="571176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618160" y="576900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6073920" y="5769000"/>
              <a:ext cx="34272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6531120" y="576900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5160960" y="5769000"/>
              <a:ext cx="3430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4705200" y="5769000"/>
              <a:ext cx="341640" cy="34128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5618160" y="5311800"/>
              <a:ext cx="34128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6073920" y="5311800"/>
              <a:ext cx="34272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6531120" y="5311800"/>
              <a:ext cx="34128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160960" y="5311800"/>
              <a:ext cx="34308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4705200" y="5311800"/>
              <a:ext cx="34164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6073920" y="4856040"/>
              <a:ext cx="341280" cy="34128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6531120" y="485604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5160960" y="4856040"/>
              <a:ext cx="3430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4705200" y="4856040"/>
              <a:ext cx="34164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618160" y="4398840"/>
              <a:ext cx="34128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6073920" y="4398840"/>
              <a:ext cx="34272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531120" y="4398840"/>
              <a:ext cx="34128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5160960" y="4398840"/>
              <a:ext cx="34308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4705200" y="4398840"/>
              <a:ext cx="34164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618160" y="394344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6073920" y="3943440"/>
              <a:ext cx="34272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6531120" y="3943440"/>
              <a:ext cx="341280" cy="34128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5160960" y="3943440"/>
              <a:ext cx="3430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4705200" y="3943440"/>
              <a:ext cx="34164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1.  What is the maximum number of choices the musketeer player can have on his tur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2.  How many first moves are ther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3.  How many last moves are ther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hat does this graph look lik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
          <p:cNvSpPr/>
          <p:nvPr/>
        </p:nvSpPr>
        <p:spPr>
          <a:xfrm>
            <a:off x="1371600" y="2895480"/>
            <a:ext cx="0" cy="2819520"/>
          </a:xfrm>
          <a:prstGeom prst="line">
            <a:avLst/>
          </a:prstGeom>
          <a:ln w="936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371600" y="5715000"/>
            <a:ext cx="609588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3794040" y="5756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a:t>
            </a:r>
            <a:endParaRPr b="0" lang="en-US" sz="2400" spc="-1" strike="noStrike">
              <a:solidFill>
                <a:srgbClr val="ffffff"/>
              </a:solidFill>
              <a:latin typeface="Times New Roman"/>
            </a:endParaRPr>
          </a:p>
        </p:txBody>
      </p:sp>
      <p:sp>
        <p:nvSpPr>
          <p:cNvPr id="220" name=""/>
          <p:cNvSpPr/>
          <p:nvPr/>
        </p:nvSpPr>
        <p:spPr>
          <a:xfrm rot="16200000">
            <a:off x="560880" y="4068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oic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7T06:53:24Z</dcterms:created>
  <dc:creator>mleblanc</dc:creator>
  <dc:description/>
  <dc:language>en-US</dc:language>
  <cp:lastModifiedBy> Marc LeBlanc</cp:lastModifiedBy>
  <dcterms:modified xsi:type="dcterms:W3CDTF">2003-03-04T07:19:17Z</dcterms:modified>
  <cp:revision>4</cp:revision>
  <dc:subject/>
  <dc:title>Three Musketeers</dc:title>
</cp:coreProperties>
</file>