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4FF-F833-4C42-99EC-13084B2E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F36-18D1-4692-AF93-E699BA42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041-8745-42C6-93CC-410178D1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CCC-A66E-4B79-BC00-763130E6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4F6-F2D5-4A50-95C7-521586BD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FA6-6794-4BAD-B209-E9FB6181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9E0-421A-441D-B2F9-61CE9F1E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157-B29E-40EE-AB29-54D91E02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E8F-A9A0-4BED-AFFB-2D8A6A66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B30-9691-4918-8351-B15060F9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118-C28D-4EDE-AB8F-9724DC27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481-1F34-4EB2-A3BE-AEEB2A03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472D-4ED0-4AFB-A941-B6EA86069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Foam Komba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240" y="20574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REU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Look into my eye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onefreud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584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modify the rules of the game so that the three characters play differently, each in a way that matches their fiction.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l free to customize game equipment with the materials at ha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you alter the rules, keep the aesthetic goals we identified in m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you keep the characters balanced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you make it possible for any player to play any charac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are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exercise apply to digital gam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yers try to hit each other with foam boffers.  A referee judges hits.  A scorekeeper keeps scor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rso hits count for 2 points.  Limb hits count for 1 point.  Head hits don’t count.  Don’t go for the head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fter any legal hit, play stops and Kombatants return to starting plac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f a player goes out of bounds, the ref calls time out and the players move back in bound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tact between players is not allowed.  If a player does anything dangerous, the ref can call time out and penalize the player 1 point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n a player has at least 5 points, he or she win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Play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are Your Impression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are Your Impression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aesthetic goals for this ga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the Foam Kombat dev t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am Kombat is designed as an LBE to be installed at a popular theme hotel in Las Veg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e to a lucrative licensing deal, your game now has three main characters who compete as gladiato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8120" y="190512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ARX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Let the class struggle commence!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marx" descr="Britaninca Online --- Karl Marx"/>
          <p:cNvPicPr/>
          <p:nvPr/>
        </p:nvPicPr>
        <p:blipFill>
          <a:blip r:embed="rId1"/>
          <a:stretch/>
        </p:blipFill>
        <p:spPr>
          <a:xfrm>
            <a:off x="762120" y="2057400"/>
            <a:ext cx="190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52320" y="20574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ARWI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Gill Sans MT"/>
              </a:rPr>
              <a:t>real 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urviv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1905120"/>
          <a:ext cx="235584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23558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6:20:57Z</dcterms:created>
  <dc:creator>mleblanc</dc:creator>
  <dc:description/>
  <dc:language>en-US</dc:language>
  <cp:lastModifiedBy>Unknown User</cp:lastModifiedBy>
  <dcterms:modified xsi:type="dcterms:W3CDTF">2001-03-17T22:21:51Z</dcterms:modified>
  <cp:revision>27</cp:revision>
  <dc:subject/>
  <dc:title>Ten Point Five</dc:title>
</cp:coreProperties>
</file>