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DC0-38D2-4AE2-8D5E-92531777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E02-DB58-4872-BA4F-04F5366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99D-79D4-4937-A886-65E10AAA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743-BC5E-46E0-A236-CA34AAC3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925-B734-46B4-8C35-86B50F5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D25-8376-4367-B3E8-1073B52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191-1174-45E6-B496-BF8650C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B56-E935-4CB8-AC19-3D89CEB8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B6B-D9AD-4BFB-9171-C16E444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53B-6371-466D-A99F-1DE4DDC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83E-BCD5-4FEF-A181-45E1494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403-E3AB-45D8-B08C-76E83A3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3D9-3E6B-44C8-8B38-4AC62A7D4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Tower Checker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ken Game Tu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al: Compet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me is competitive i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yers are adversaries  (i.e. victory is mutual exclus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s have an ongoing emotional investment in winning to the exclusion of other p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yers think they can’t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s can’t assess who is winn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al: Origin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original game is reasonably distinct from games that have gone before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se of Tower Checkers, it should in particular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nct from Checkers, e.g., by virtue of emplo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erogeneous units, resource managemen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servation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ategy for “stack growing” is degenerate; the player who always grows his tallest stack always beats the player who divides his “grow” moves among different stac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: How is the presence of a degenerate strategy at odds with our goals: challenge, competition, original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rules so that other strategies are vi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 Playtest your modified Tower Checkers.  (You may want to try several variants in paralle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re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aesthetic goals influence your process or your resul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exercise apply to digital ga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check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jump each other just as in normal checkers, but a jumped stack is capture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jumping stack is of the same height or tall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Pl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ame is played like regular checkers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ieces are not individual checkers, bu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c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heck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arting position is identical to normal checkers; all the “stacks” are one checker hig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your turn you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) Move a stack (according to normal checkers rules)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Grow one of your stacks by adding a check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jump each other just as in normal checkers, but a jumped stack is capture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jumping stack is of the same height or tall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s can become “kings” just like in normal checkers.  Use coins or tokens to mark stacks that have been “kinged.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al: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llenging game provides the player wit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fficul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tab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.  Players are rewarded for success; more difficult challenges yield greater rewar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re trivial, or too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wards don’t match difficul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6:20:57Z</dcterms:created>
  <dc:creator>mleblanc</dc:creator>
  <dc:description/>
  <dc:language>en-US</dc:language>
  <cp:lastModifiedBy>Unknown User</cp:lastModifiedBy>
  <dcterms:modified xsi:type="dcterms:W3CDTF">2001-03-17T22:00:03Z</dcterms:modified>
  <cp:revision>40</cp:revision>
  <dc:subject/>
  <dc:title>Ten Point Five</dc:title>
</cp:coreProperties>
</file>