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F58-2423-4BA6-B4D3-D912B70A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4B9-1991-4D4C-9194-854E967F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312-7110-46FD-B9CA-9D9D3BFF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13D-CD86-43B5-96B4-51C80532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0B3-D1B1-4393-B746-29EB8F25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A2F-8EF6-4201-88A5-996DE261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D38-1941-4E0E-8AC2-CA9D944C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054-E94E-4C7C-B86A-FB75B257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8FB-03E6-4E63-B657-17149C78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B63-B32D-4BF0-BEAA-55F1D74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995-42A4-458B-9F67-326E814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0ED-E991-4C84-BB22-166A9D88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9190-D504-4E44-AB8A-A840F94F0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and Tuning Worksh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864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 “MAHK” LeBla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on’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mea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 tw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ddling with knob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 View games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4533840" y="2857320"/>
            <a:ext cx="1219320" cy="14475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819520"/>
            <a:ext cx="3962160" cy="2133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3809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7" idx="3"/>
            <a:endCxn id="74" idx="1"/>
          </p:cNvCxnSpPr>
          <p:nvPr/>
        </p:nvCxnSpPr>
        <p:spPr>
          <a:xfrm>
            <a:off x="3886200" y="388584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5715000" y="36576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8" idx="3"/>
            <a:endCxn id="81" idx="3"/>
          </p:cNvCxnSpPr>
          <p:nvPr/>
        </p:nvCxnSpPr>
        <p:spPr>
          <a:xfrm flipH="1">
            <a:off x="3885480" y="3733560"/>
            <a:ext cx="1981800" cy="656280"/>
          </a:xfrm>
          <a:prstGeom prst="bentConnector3">
            <a:avLst>
              <a:gd name="adj1" fmla="val -115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295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75" idx="1"/>
          </p:cNvCxnSpPr>
          <p:nvPr/>
        </p:nvCxnSpPr>
        <p:spPr>
          <a:xfrm>
            <a:off x="2133720" y="3352320"/>
            <a:ext cx="228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9" idx="3"/>
            <a:endCxn id="83" idx="1"/>
          </p:cNvCxnSpPr>
          <p:nvPr/>
        </p:nvCxnSpPr>
        <p:spPr>
          <a:xfrm>
            <a:off x="5866920" y="342864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86" name=""/>
          <p:cNvGrpSpPr/>
          <p:nvPr/>
        </p:nvGrpSpPr>
        <p:grpSpPr>
          <a:xfrm>
            <a:off x="2590920" y="3657600"/>
            <a:ext cx="1295280" cy="914400"/>
            <a:chOff x="2590920" y="3657600"/>
            <a:chExt cx="1295280" cy="914400"/>
          </a:xfrm>
        </p:grpSpPr>
        <p:sp>
          <p:nvSpPr>
            <p:cNvPr id="87" name=""/>
            <p:cNvSpPr/>
            <p:nvPr/>
          </p:nvSpPr>
          <p:spPr>
            <a:xfrm>
              <a:off x="2590920" y="3657600"/>
              <a:ext cx="129528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160" y="3840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3560" y="4297320"/>
              <a:ext cx="1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33560" y="38102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193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lay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3657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raphics/S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5334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“State Machine”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ormal Approach to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 Apply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formal model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models are “l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formal mo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ing Your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inds of “fun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you want your players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s of entertainm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your game prov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w Example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y; Fantasy; Simulation; Exploration; Discovery; Drama; Tension; Self-Expression; Challenges; Rewards; Goals; Planning; Problem Solving; Visual Beauty; Aural Beauty; Tactile Beauty; Socialization; Competition;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 on Aesthetic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games serve multiple purp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egments of an audience have different tas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ying Formal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games accomplish our goa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a game’s rules shape its “behavior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 “Aesthetic Mode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gorous definition of an aesthetic go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s the question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How do games achieve this goal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s as an “aesthetic compas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identify possible “failure mode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Com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eti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are advers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have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ngoing emotional invest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defeating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feels that he can’t w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yer can’t measure his pro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: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workshop high conce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the facu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Realistic Flight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Models: Our flight dynamics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alis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match a mathematical formula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pass our “realism checklist,”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resident pilot thinks they a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er-intuitive system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: A gam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ra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central conflict creat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amatic 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amatic tension builds toward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ima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657600"/>
          <a:ext cx="64008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57600"/>
                    <a:ext cx="64008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: D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Mo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ten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flict’s outcome is obviou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ense of forward progress (n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vit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sion does not increase towards a cli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 “Dynamic Model?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rmula or abstr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lai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edic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behavior of a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Random Vari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model of 2d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2563920"/>
          <a:ext cx="5943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63920"/>
                    <a:ext cx="5943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 rot="16200000">
            <a:off x="1310040" y="41619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hance in 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88160" y="6172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e r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eedback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feedback system monitors and regulates its own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124080" y="480024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124080" y="525780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840" y="4495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2200" y="5410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7400" y="61722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deal 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138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 in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 our prog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out our game’s fla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Model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 success and fail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kinds help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possible rev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erties of Good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our models to b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(i.e. well-defin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widely applicabl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n (i.e. known to wor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 expect to use several different models, not one big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Models Come 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exist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ields: Literature, Psychology, Engineer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own experi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uning Process, Revisi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star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our aesthetic go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we itera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formal mo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itera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from th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I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of its k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ands-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ed in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ppro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ame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ded to be open-en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rning From the Tuning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iterations, we re-evalu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mod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assum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times we need to revise our own thinking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ving Forward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hope the future brings 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ch aesthetic vocabul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atalog of formal mod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for applying dynamic models to aesthetic purp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mal Abstract Design Tool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y-Aim-F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have 3 cho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 some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 your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 the 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y-Aim-F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get shot, you lose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shoot yourself and someone else also shoots you, you wi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shoot someone who shot himself, you 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Workshop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n’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“indust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the game design “professio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ed with the early stages of game desig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one-way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’ll be Do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ing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w Ground Ru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attend the whole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pecific.  Get down to the detai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aborate, Share, and Encour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the “meta-discussion” for the very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ing the Facul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Lead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stin Gross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ic Zimmer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l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g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 Costiky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aff E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ard Gar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w Le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: Tu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part we wil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u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a formal appro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72080" y="220968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e mean by “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uning: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ning is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erat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1523880"/>
            <a:ext cx="190476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447920"/>
            <a:ext cx="1905120" cy="19047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886200"/>
            <a:ext cx="1905120" cy="1905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7615200">
            <a:off x="5162040" y="34095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13984800">
            <a:off x="3104640" y="3485160"/>
            <a:ext cx="914400" cy="495000"/>
          </a:xfrm>
          <a:prstGeom prst="rightArrow">
            <a:avLst>
              <a:gd name="adj1" fmla="val 50000"/>
              <a:gd name="adj2" fmla="val 46182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5:33:25Z</dcterms:created>
  <dc:creator>mleblanc</dc:creator>
  <dc:description/>
  <dc:language>en-US</dc:language>
  <cp:lastModifiedBy>Marc "MAHK" LeBlanc</cp:lastModifiedBy>
  <dcterms:modified xsi:type="dcterms:W3CDTF">2001-03-19T23:15:04Z</dcterms:modified>
  <cp:revision>18</cp:revision>
  <dc:subject/>
  <dc:title>Game Design and Tuning Workshop</dc:title>
</cp:coreProperties>
</file>