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ADE-DC85-4D69-AF8A-A9F3363D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FBE-EF22-4018-A963-4572C0DA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4A2-47F3-42E3-BCCC-CDA45016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D34-6ADA-4D25-8C45-025B17CE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837-0E7F-45B2-B746-9C07CAA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FBD-0956-490E-8AE6-F22395F2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A9A-F169-4A38-9074-B724D6A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877-F307-43D9-AD7F-C5C6623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B61-96E1-4B3A-8841-E4ED7AA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74F-7D58-4480-ACA7-5177598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9D1-A0B6-449E-94AE-EAD40B94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5A8-DBA8-48FA-A1CC-BBC85A8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159-78D4-4A6C-BFDD-30DEF3F5C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ee Muskete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3600" y="556272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les for Three Muskete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10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player moves one of his pieces a tur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eteers move by capturing a nearby ene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’s men move to a nearby empty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 wins if the Musketeers are in the same row or colum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eteers win if they cannot m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248520" y="2666880"/>
            <a:ext cx="2280960" cy="2281320"/>
            <a:chOff x="6248520" y="2666880"/>
            <a:chExt cx="2280960" cy="2281320"/>
          </a:xfrm>
        </p:grpSpPr>
        <p:sp>
          <p:nvSpPr>
            <p:cNvPr id="46" name=""/>
            <p:cNvSpPr/>
            <p:nvPr/>
          </p:nvSpPr>
          <p:spPr>
            <a:xfrm>
              <a:off x="624852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464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076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1724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73360" y="26668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4852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0464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6076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1724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3360" y="31230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852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0464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076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724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73360" y="35794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0464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076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1724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73360" y="403560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852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464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076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1724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73360" y="4492080"/>
              <a:ext cx="456120" cy="456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1800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7412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3024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61520" y="45489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05400" y="45489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1800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7412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3024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6152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05400" y="40928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18000" y="36363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7412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3024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6152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05400" y="36363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1800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7412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3024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6152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5400" y="318024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1800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7412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30240" y="2723760"/>
              <a:ext cx="342000" cy="34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152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05400" y="2723760"/>
              <a:ext cx="342000" cy="34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40008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ing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are this game’s aesthetic virtu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other words, what aesthetic goals does this game actually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4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ile remaining faithful to the aesthetic qualities we have identifi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3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 the rules to accommodate 4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you come up with a single rules set that accommodates 2-4 play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llow-Up 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6:53:24Z</dcterms:created>
  <dc:creator>mleblanc</dc:creator>
  <dc:description/>
  <dc:language>en-US</dc:language>
  <cp:lastModifiedBy>Marc "MAHK" LeBlanc</cp:lastModifiedBy>
  <dcterms:modified xsi:type="dcterms:W3CDTF">2001-03-21T12:29:28Z</dcterms:modified>
  <cp:revision>2</cp:revision>
  <dc:subject/>
  <dc:title>Three Musketeers</dc:title>
</cp:coreProperties>
</file>