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471-4491-4CF3-A9C6-70290CBF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665-553B-4B36-AEC7-3A38607A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BD2-8437-41A2-93A0-C659198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01C-8181-4318-9E05-C6B22392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7F4-4512-46F9-8979-B69F5E4A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EC0-D9B0-48C1-9A00-EA3F7F3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918-CDC6-49B4-898D-B5754301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0C6-A402-48B3-B469-0E96D40F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D26-67CE-4BB9-AAEF-76EB0F3D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83B-F46E-41D3-85B3-39668C4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F43-808E-4E6B-B073-95B9F9D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398-8486-4733-8C5E-A8A9CD1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0CB6-E044-4AAC-B24B-A0F59B8EE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Ten Point Fiv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DC’s hottest new game sh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wenty-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unched by NBC in September, 195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 few episodes, the producers decided to rig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ings soa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1958, Twenty-One became the center of the quiz show scand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fact, the first show o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not rigged and the first show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mal failure. It was just plain du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Enright, Produ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was the show such a “dismal failur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es designing for television affect our aesthetic goals?  What are the aesthetic goals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enty-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graph of a contestant's score as a function of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we expect that graph to look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we want it to look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ivide into grou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ers of Ten Point Five have hired you to suggest ways of making the game “more exciting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up with a way to add drama to the game without rigging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You are not responsible for developing the quiz questions, though you may send special instructions and guidelines to the question developers.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10.5 points first, and you w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core points by answering ques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player knows the other player’s sc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each question, choose how many points to wager.  Up to 5.5 points may be wag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right: You get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 wrong: Y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10.5 points first, and you w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end of a round, either player may choose to end the game.  Most points wi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Marc "MAHK" LeBlanc</cp:lastModifiedBy>
  <dcterms:modified xsi:type="dcterms:W3CDTF">2001-03-20T09:33:16Z</dcterms:modified>
  <cp:revision>4</cp:revision>
  <dc:subject/>
  <dc:title>Ten Point Five</dc:title>
</cp:coreProperties>
</file>