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99B8-D1E3-439E-A77D-072832AA0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ADB-FA10-49DC-8B27-C56BE566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BFA-673D-48DC-92F8-2051E4C4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07C-9D33-417B-BA8E-57C43587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D37-902D-4BA6-AB07-1C47DCBC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F32-8344-4AC4-B6D6-D9AA2B3A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897-3E5B-4A98-8BCB-AD6827A6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128-504D-4B14-8BF7-F7CC687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59C-8072-44C9-AE4E-F1E0B78A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E3A-90F6-423E-88F9-101ED427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366-34FA-407E-BF38-48A35A52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2F0-EDEC-49D0-9BFA-4A49B764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F33-773A-420D-AB5E-DCB8363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C483-EEB4-44E1-B259-E746F01DA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Boy Meets Zombi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 - S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Shooter As Journey into The P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Joe must fight a succession of zombies, each representing part of JB’s past, i.e. former friends, teachers, etc.  Perhaps cut-scenes show flashbacks of his lif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s deepens our sense of his character, of a small-town life.  It becomes a biography of Joe, told in shooter form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n the other hand, not much of interest happens in the present – it’s all memor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perhaps ultimately it is Joe daydreaming in his cell, going over the past.  The game becomes about memory, past relationships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 - S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hooter in Dynamic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e encounters 3 kinds of zombie, all of which hate each oth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 Satanic cults are battling for the town.  A crude world-status-monitor actually tracks the fortunes of each cult, and repopulates the town according to who’s doing well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e can learn the goal of each one, and aid it by destroying its enemies and achieving its goal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a given cult likes Joe enough, it will help him rescue Jane; all the other cults will hate him m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onally, Joe can actually join a cult, and gain black magic powers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Joe can just kill everybody he sees, although this is har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 - S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rtsy Prog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e fights through a set of levels progressing from early autumn to late spring – symbolic of Joe’s weariness and gradual sense that he can begin new life after pris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gue and artsy, but computer games are good at projecting season and mood rather than elaborate story, so that’s the win 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Lu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re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formulate any story-related aesthetic models from our experience 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cover the possibilities, or barely scratch the surface, or somewhere in betwe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et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the design team for a game called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oe Black Is Ba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first-person shooter with a simple st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ning Cut-Sce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leaving pri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gets off bus in Smallville (“duh…where’s Jane?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sees zombies (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gets mad (“grrr…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GAME BEGIN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sing Cut-Sce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pile of dead zomb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hugs Jane (“Oh Joe!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was in prison for a crime he didn’t com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he was away, Satanic cultists took over Smallvil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kidnapped Jane, his girlfri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becomes their zombie slav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r 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More Story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richer/deeper/better story to this first-person shoo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 up with a description of the story and specifics of how it is implemented in the game and conveyed to the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about the tools availab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 geometry and textures – this is probably the most vivid and intuitive tool, so use i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back of vid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back of audio +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laying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ripted npc mo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ps/triggers: Collecting data about in-game events, using these to alter game parameter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rsation interfaces – menu, keyword, &amp;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oters with Story, recent exa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us 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 Shock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One Lives Fore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erican McGee’s A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6:20:57Z</dcterms:created>
  <dc:creator>mleblanc</dc:creator>
  <dc:description/>
  <dc:language>en-US</dc:language>
  <cp:lastModifiedBy>Unknown User</cp:lastModifiedBy>
  <dcterms:modified xsi:type="dcterms:W3CDTF">2001-03-17T23:15:19Z</dcterms:modified>
  <cp:revision>51</cp:revision>
  <dc:subject/>
  <dc:title>Ten Point Five</dc:title>
</cp:coreProperties>
</file>